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A9E-A191-4410-9765-96B54F76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71D-D176-4078-AB9D-0FBCBCCE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BDF-CEDB-41B3-A88E-D309BA47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379-6B39-4ACE-BE07-30BDC58A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98F6-485D-472A-B00B-759849F9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0278-9538-4ACF-8B4D-1D1DB208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2B5F-95F6-4977-AB94-DCED60CB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E8F1-A990-4564-95F6-47300433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C26A-CCB2-4F7B-8F50-DD22199C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AC2F-F354-4A74-8B0D-BF3FB7C4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099B-992F-4F94-8411-4BD6C360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6FC-CF68-4602-81BA-A96493C5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7438-6822-427D-A5C9-41EBFD18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759D-2B80-4AA1-9F17-2A230FD5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F9B0-A2F5-4DC3-8466-A835F40B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6F90-ABE2-4956-99CB-1D184D98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FF10-50CF-4C7D-92A7-350EF3D8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498-9F00-4FFA-8539-84B89996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410-3847-42D8-BE43-0F9FA0E3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1AF-FF98-4FC7-99B5-EE3B594F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D74-4A80-4E3D-A1C4-D3D6E17E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243-E4AB-4DFD-9849-445CEEA1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C37-2877-4605-8CFD-04AC046B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38A-39E8-4F23-85F8-8D358297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E2B2-A169-4ED1-8E30-33DABBA75B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C5E4-103C-4E62-86FD-6405CB5BB4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bi.polimi.it/rune/grafik/thumbsti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9051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E505: Robotic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nal Project – Papers Review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733920" y="495288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resented B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o G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dviso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. Venkat Krov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657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in Topic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Nonholonomic-Wheel Mobile Robot (WMR).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ub-Topic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Modeling, Redundancies, &amp; Motion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mobile2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2971800" cy="2033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mobile1" descr=""/>
          <p:cNvPicPr/>
          <p:nvPr/>
        </p:nvPicPr>
        <p:blipFill>
          <a:blip r:embed="rId2"/>
          <a:srcRect l="50005" t="0" r="0" b="0"/>
          <a:stretch/>
        </p:blipFill>
        <p:spPr>
          <a:xfrm>
            <a:off x="1523880" y="4572000"/>
            <a:ext cx="1447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14400" y="5410080"/>
            <a:ext cx="640080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9072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1905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ynam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2743200"/>
            <a:ext cx="1371600" cy="914400"/>
          </a:xfrm>
          <a:prstGeom prst="wedgeRectCallout">
            <a:avLst>
              <a:gd name="adj1" fmla="val -73379"/>
              <a:gd name="adj2" fmla="val 796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x N inertia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838080" y="6324480"/>
            <a:ext cx="4267440" cy="298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34290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62120" y="2362320"/>
                <a:ext cx="5257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τ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62120" y="3048120"/>
                <a:ext cx="49435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w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1905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ynam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1219320"/>
            <a:ext cx="533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3048120"/>
            <a:ext cx="2590920" cy="914400"/>
          </a:xfrm>
          <a:prstGeom prst="wedgeRectCallout">
            <a:avLst>
              <a:gd name="adj1" fmla="val -160907"/>
              <a:gd name="adj2" fmla="val 40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x 1 vector of position and velocity dependent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60680" y="4908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4876920"/>
            <a:ext cx="2438640" cy="761760"/>
          </a:xfrm>
          <a:prstGeom prst="wedgeRectCallout">
            <a:avLst>
              <a:gd name="adj1" fmla="val -112111"/>
              <a:gd name="adj2" fmla="val 556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x r input transform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1752480"/>
            <a:ext cx="2438640" cy="762120"/>
          </a:xfrm>
          <a:prstGeom prst="wedgeRectCallout">
            <a:avLst>
              <a:gd name="adj1" fmla="val -143879"/>
              <a:gd name="adj2" fmla="val 68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-dimensional input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85800" y="2438280"/>
                <a:ext cx="4724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τ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3048120"/>
                <a:ext cx="31338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sSup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sSup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200400" y="4724280"/>
                <a:ext cx="19209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3224160"/>
          <a:ext cx="11448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24160"/>
                    <a:ext cx="11448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0" y="34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0" y="3224160"/>
          <a:ext cx="114480" cy="1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24160"/>
                    <a:ext cx="11448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0" y="34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ynam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3200400"/>
            <a:ext cx="2057400" cy="457200"/>
          </a:xfrm>
          <a:prstGeom prst="wedgeRectCallout">
            <a:avLst>
              <a:gd name="adj1" fmla="val -122143"/>
              <a:gd name="adj2" fmla="val -15208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traints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5282600">
            <a:off x="1523880" y="3879720"/>
            <a:ext cx="1388880" cy="1338120"/>
          </a:xfrm>
          <a:prstGeom prst="lightningBol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3733920"/>
            <a:ext cx="2057400" cy="685800"/>
          </a:xfrm>
          <a:prstGeom prst="wedgeRectCallout">
            <a:avLst>
              <a:gd name="adj1" fmla="val -98300"/>
              <a:gd name="adj2" fmla="val 11180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(q) are in the null space of A(q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04920" y="2362320"/>
                <a:ext cx="54385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τ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295280" y="3048120"/>
                <a:ext cx="2905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143000" y="4876920"/>
                <a:ext cx="60483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q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q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d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>
                                <m:t xml:space="preserve">d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>
                                <m:t xml:space="preserve">d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d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80880" y="3276720"/>
                <a:ext cx="1524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444840" y="2743200"/>
                <a:ext cx="1766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12920" y="2362320"/>
                <a:ext cx="1612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2286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4557600">
            <a:off x="4539960" y="3537000"/>
            <a:ext cx="1158840" cy="485640"/>
          </a:xfrm>
          <a:prstGeom prst="rightArrow">
            <a:avLst>
              <a:gd name="adj1" fmla="val 50000"/>
              <a:gd name="adj2" fmla="val 5965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281952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iate and replace the one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7299600">
            <a:off x="6242400" y="5072400"/>
            <a:ext cx="1084320" cy="486000"/>
          </a:xfrm>
          <a:prstGeom prst="rightArrow">
            <a:avLst>
              <a:gd name="adj1" fmla="val 50000"/>
              <a:gd name="adj2" fmla="val 5577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164040" y="5791320"/>
                <a:ext cx="39290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υ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390920" y="4343400"/>
                <a:ext cx="4753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τ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525780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19680" y="495288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multiply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238880" y="51055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0" y="2209680"/>
                <a:ext cx="3657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υ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3809880" y="2362320"/>
            <a:ext cx="1143000" cy="409320"/>
          </a:xfrm>
          <a:prstGeom prst="rightArrow">
            <a:avLst>
              <a:gd name="adj1" fmla="val 50000"/>
              <a:gd name="adj2" fmla="val 6981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828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ing state-spac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819520" y="3048120"/>
                <a:ext cx="3504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υ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m>
                      <m:m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</m:mr>
                    </m:m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34120" y="2209680"/>
                <a:ext cx="32763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Sυ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S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400800" y="35812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ose there is input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248520" y="5410080"/>
                <a:ext cx="20574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Sυ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8081280" y="3505320"/>
            <a:ext cx="45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ea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67480" y="3352680"/>
            <a:ext cx="486000" cy="1828800"/>
          </a:xfrm>
          <a:prstGeom prst="downArrow">
            <a:avLst>
              <a:gd name="adj1" fmla="val 50000"/>
              <a:gd name="adj2" fmla="val 9407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4724280"/>
            <a:ext cx="2438280" cy="914400"/>
          </a:xfrm>
          <a:prstGeom prst="wedgeRoundRectCallout">
            <a:avLst>
              <a:gd name="adj1" fmla="val 233074"/>
              <a:gd name="adj2" fmla="val 77259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80880" y="220968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35268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27400" y="1828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iat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343400" y="2286000"/>
                <a:ext cx="4648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∂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q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</m:den>
                    </m:f>
                    <m:r>
                      <m:t xml:space="preserve">q</m:t>
                    </m:r>
                    <m:r>
                      <m:t xml:space="preserve">)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υ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Φ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5638680" y="3048120"/>
            <a:ext cx="1447920" cy="761760"/>
          </a:xfrm>
          <a:prstGeom prst="wedgeRectCallout">
            <a:avLst>
              <a:gd name="adj1" fmla="val 153949"/>
              <a:gd name="adj2" fmla="val -10729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oupling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458200" y="2895480"/>
            <a:ext cx="485640" cy="2514600"/>
          </a:xfrm>
          <a:prstGeom prst="downArrow">
            <a:avLst>
              <a:gd name="adj1" fmla="val 50000"/>
              <a:gd name="adj2" fmla="val 12944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6908760" y="3078360"/>
            <a:ext cx="45468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iate it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791320" y="5562720"/>
                <a:ext cx="3124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Φ</m:t>
                        </m:r>
                      </m:e>
                    </m:acc>
                    <m:r>
                      <m:t xml:space="preserve">υ</m:t>
                    </m:r>
                    <m:r>
                      <m:t xml:space="preserve">+</m:t>
                    </m:r>
                    <m:r>
                      <m:t xml:space="preserve">Φ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 rot="630600">
            <a:off x="3433680" y="5098680"/>
            <a:ext cx="2432160" cy="485640"/>
          </a:xfrm>
          <a:prstGeom prst="leftArrow">
            <a:avLst>
              <a:gd name="adj1" fmla="val 50000"/>
              <a:gd name="adj2" fmla="val 12520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70000" y="3886200"/>
                <a:ext cx="32702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  <m:r>
                          <m:t xml:space="preserve">υ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  <m:r>
                          <m:t xml:space="preserve">υ</m:t>
                        </m:r>
                        <m:r>
                          <m:t xml:space="preserve">+</m:t>
                        </m:r>
                        <m:r>
                          <m:t xml:space="preserve">Φu</m:t>
                        </m:r>
                      </m:e>
                      <m:e/>
                      <m:e>
                        <m:r>
                          <m:t xml:space="preserve">⇒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  <m:r>
                          <m:t xml:space="preserve">υ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80880" y="5715000"/>
            <a:ext cx="1981440" cy="609480"/>
          </a:xfrm>
          <a:prstGeom prst="wedgeRoundRectCallout">
            <a:avLst>
              <a:gd name="adj1" fmla="val -31087"/>
              <a:gd name="adj2" fmla="val -127865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4191120"/>
            <a:ext cx="1447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5943600"/>
            <a:ext cx="4800600" cy="609480"/>
          </a:xfrm>
          <a:prstGeom prst="flowChartTermina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200400" y="5943600"/>
                <a:ext cx="3857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0" y="2133720"/>
                <a:ext cx="2819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Φ</m:t>
                        </m:r>
                      </m:e>
                    </m:acc>
                    <m:r>
                      <m:t xml:space="preserve">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86400" y="1981080"/>
                <a:ext cx="35053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Sυ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2286000"/>
            <a:ext cx="2361960" cy="457200"/>
          </a:xfrm>
          <a:prstGeom prst="rightArrow">
            <a:avLst>
              <a:gd name="adj1" fmla="val 50000"/>
              <a:gd name="adj2" fmla="val 1291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8120" y="1981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ce we know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3048120"/>
            <a:ext cx="485640" cy="1828800"/>
          </a:xfrm>
          <a:prstGeom prst="downArrow">
            <a:avLst>
              <a:gd name="adj1" fmla="val 50000"/>
              <a:gd name="adj2" fmla="val 9414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486400" y="4952880"/>
                <a:ext cx="13953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1440" y="34297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8120" y="5257800"/>
            <a:ext cx="2438280" cy="457200"/>
          </a:xfrm>
          <a:prstGeom prst="leftArrow">
            <a:avLst>
              <a:gd name="adj1" fmla="val 50000"/>
              <a:gd name="adj2" fmla="val 1333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0" y="5257800"/>
                <a:ext cx="33526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m>
                      <m:m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</m:mr>
                    </m:m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838080" y="3429000"/>
            <a:ext cx="3429000" cy="914400"/>
          </a:xfrm>
          <a:prstGeom prst="wedgeRectCallout">
            <a:avLst>
              <a:gd name="adj1" fmla="val -69074"/>
              <a:gd name="adj2" fmla="val 16198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can know every state variables in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1486800" y="19810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73960" y="19810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Simulation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90000" y="236232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Time Span: 0 – 6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27432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Path Trace: x = 6, y =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320040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Velocity: x_dot = 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_do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411480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Length of Link 1 = 5/sqrt(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2= 5/sqrt(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51055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33520" y="2646360"/>
            <a:ext cx="4459320" cy="3678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486800" y="198108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73960" y="19810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Simulation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90000" y="236232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Time Span: 0 – 6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86400" y="27432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Path Trace: x = t, y = t+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320040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Velocity: x_dot =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_do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411480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Length of Link 1 = 5/sqrt(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2= 5/sqrt(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cus on two paper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Nonholonomic Mobile Manipulators: Kinematics, Velocities and Redundancies,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Journal of Intelligent and Robotic Systems Volume 36 , Issue 1 (January 2003) Pages: 45 – 6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Authors: B. Bayle, J-Y. Fourquet and M. Renau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Present by: Leng-Feng L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IEEE Transactions on Automatic Control, Vol. 39, No. 6, June 1994, pp. 1326-133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Authors: Yoshio Yamamoto and Xiaoping Yu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Present by: Tao G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1981080"/>
            <a:ext cx="67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imulation Result (case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2819520"/>
            <a:ext cx="327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trol of WMR with Nonholonomic Constraints with Error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-The velocity of point Po are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510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14300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981080"/>
            <a:ext cx="67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imulation Result (case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281952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-It indicates that the mobile platform moved backward for a short period of time at the very beginning to achieve the needed heading 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7200" y="2303640"/>
            <a:ext cx="8305920" cy="4554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3880" y="1752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1828800"/>
            <a:ext cx="67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imulation Result (case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1981080"/>
            <a:ext cx="67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imulation Result (case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15000" y="2819520"/>
            <a:ext cx="327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trol of WMR with Nonholonomic Constraints with Error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-The velocity of point Po are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1981080"/>
            <a:ext cx="67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imulation Result (case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172200" y="281952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-It indicates that the mobile platform moved backward for a short period of time at the very beginning to achieve the needed heading 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7620120" cy="4419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1430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1905120"/>
            <a:ext cx="67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imulation Result (case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264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4876" t="0" r="0" b="0"/>
          <a:stretch/>
        </p:blipFill>
        <p:spPr>
          <a:xfrm>
            <a:off x="0" y="320040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505320" y="205740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95480" y="18288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3200400"/>
            <a:ext cx="41148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The second paper introduce a method of using Manipulability Measure of the Mobile Manipulator as the potential function included in the motion control of the WM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We verified the effectiveness of the method by simulations on two representative traject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zation of Presenta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 each paper, we will present the follow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troduction of the pap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Formulation of the problem using an examp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imulation setting u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imulation Resul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Discussion of the Simulation Resul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990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ntro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05740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1828800"/>
            <a:ext cx="6019920" cy="50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 person writes across a board, he/she positions his/her arm i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 comfortable writing configu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moving his/her body rather than reaching out the a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e same situation happens in many case such as people transporting a heavy object coopera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refo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n a mobile manipulator performs a manipulation task, it is desirable to bring the manipulator into certain preferred configurations b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ppropriately planning the motion of the mobile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thumbstim.jpg (9340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514600"/>
            <a:ext cx="19717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71600" y="11430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deling: Using a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124080"/>
            <a:ext cx="1371600" cy="533520"/>
          </a:xfrm>
          <a:prstGeom prst="rightArrow">
            <a:avLst>
              <a:gd name="adj1" fmla="val 50000"/>
              <a:gd name="adj2" fmla="val 64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24382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057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ia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38098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3809880" cy="3066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2057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47242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ee variables describe the position and orientation of the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2057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tate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4800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variables specify the angular positions for the driving whe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981400" y="316224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18"/>
                </a:lnTo>
                <a:cubicBezTo>
                  <a:pt x="10800" y="9818"/>
                  <a:pt x="5400" y="10718"/>
                  <a:pt x="0" y="10718"/>
                </a:cubicBezTo>
                <a:cubicBezTo>
                  <a:pt x="5400" y="10718"/>
                  <a:pt x="10800" y="11618"/>
                  <a:pt x="10800" y="125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391160" y="3352680"/>
            <a:ext cx="457200" cy="762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18"/>
                </a:lnTo>
                <a:cubicBezTo>
                  <a:pt x="10800" y="9818"/>
                  <a:pt x="5400" y="10718"/>
                  <a:pt x="0" y="10718"/>
                </a:cubicBezTo>
                <a:cubicBezTo>
                  <a:pt x="5400" y="10718"/>
                  <a:pt x="10800" y="11618"/>
                  <a:pt x="10800" y="125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105160" y="39625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419720" y="2743200"/>
                <a:ext cx="39621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3809880" cy="3066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1932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19810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dding Nonholonomic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824800">
            <a:off x="1676520" y="29714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0825400">
            <a:off x="2437920" y="5866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522400">
            <a:off x="3886200" y="35809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.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.1 constra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that the platform must move in the direction of the axis of symmetry (holonom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4197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.2,3 constrain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 the rolling constraints, i.e. the driving wheels do not slip(nonholonom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105520" y="3657600"/>
                <a:ext cx="3429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t xml:space="preserve">−</m:t>
                    </m:r>
                    <m:r>
                      <m:t xml:space="preserve">d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φ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029200" y="5334120"/>
                <a:ext cx="350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t xml:space="preserve">b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φ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029200" y="5867280"/>
                <a:ext cx="3429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φ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3809880" cy="3067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06668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Thre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2743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ording to the q, the three constraints can be written in the form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114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81480" y="3581280"/>
                <a:ext cx="17337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191120" y="4572000"/>
                <a:ext cx="4419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r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r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nd pape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Coordinating Locomotion and Manipulation of a Mobile Manipulator”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993000" y="29005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30480" y="5033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838080" y="5867280"/>
                <a:ext cx="56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83808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28195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22860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Space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22860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Mobile plateform’s equation of motion are describ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191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4191120"/>
            <a:ext cx="2133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/>
          <p:nvPr/>
        </p:nvCxnSpPr>
        <p:spPr>
          <a:xfrm>
            <a:off x="1828800" y="4343040"/>
            <a:ext cx="2086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4495680" y="4038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x N inertia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14640" y="46483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/>
          <p:nvPr/>
        </p:nvCxnSpPr>
        <p:spPr>
          <a:xfrm flipV="1">
            <a:off x="1752120" y="4876560"/>
            <a:ext cx="237420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4419720" y="4648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x 1 vector of position and velocity dependent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/>
          <p:nvPr/>
        </p:nvCxnSpPr>
        <p:spPr>
          <a:xfrm flipV="1">
            <a:off x="1599840" y="5486040"/>
            <a:ext cx="251532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572000" y="5410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x r input transform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9436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6095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9436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-dimensional input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38440" y="3276720"/>
                <a:ext cx="5314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τ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38080" y="4114800"/>
                <a:ext cx="762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62120" y="4648320"/>
                <a:ext cx="838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2120" y="5257800"/>
                <a:ext cx="838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8:14:11Z</dcterms:created>
  <dc:creator>llee3</dc:creator>
  <dc:description/>
  <dc:language>en-US</dc:language>
  <cp:lastModifiedBy> gantao</cp:lastModifiedBy>
  <dcterms:modified xsi:type="dcterms:W3CDTF">2004-10-02T16:59:38Z</dcterms:modified>
  <cp:revision>96</cp:revision>
  <dc:subject/>
  <dc:title>MAE505: Robotics Final Project – Papers Review.</dc:title>
</cp:coreProperties>
</file>