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t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t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tr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t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7958-169E-4A4E-84E9-3FDF2AA341F7}" type="slidenum">
              <a:rPr b="0" lang="en-US" sz="1200" spc="-1" strike="noStrike">
                <a:solidFill>
                  <a:srgbClr val="000000"/>
                </a:solidFill>
                <a:latin typeface="Tit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1BB5-D550-412D-8AD9-83559BFE8E01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78BD-9196-47CB-B9C5-3569DB9C4D62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340A-FCD2-4926-9431-7D99CBB0995F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1829-8944-4077-885B-72618C3ABC4B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1C31-3B30-451F-8F73-0C3C01E593D1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43D5-F911-4FCD-A800-D0887BCF4A4F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7B34-D554-4FBF-854F-1350DC23DEDA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0B22-7071-422F-B2A1-1AA5B5C3DF75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D69C-B570-4256-A10B-E165B3C9A982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F93C-D1E8-419F-B7B0-347159FAB6EE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49E0-FCDC-484C-A4B4-212D4C275551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D1F1-C363-4E5C-B833-CDA63BE7F436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46E3-CEF6-4119-A7D7-8165707EAB64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3808-F596-495F-B076-023DC0DAB3FF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A7EF-82B6-4E0C-9EE9-05B41E072E76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C20E-79B6-44C8-AD3A-1E836E9027CD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F056-C259-4FE4-ADA4-2FE36F21EB70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CC5B-8C43-455B-81A7-1CC7A6DA6BC2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DEEC-C5E9-46CD-B8F2-848EA2B759D8}" type="slidenum">
              <a:rPr b="0" lang="en-US" sz="1200" spc="-1" strike="noStrike">
                <a:solidFill>
                  <a:srgbClr val="ffffff"/>
                </a:solidFill>
                <a:latin typeface="Titr"/>
                <a:ea typeface="Tit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37E-B4B4-42BC-AA50-0DBA1061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CA1-92FA-413D-9571-543F09B1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BEE-2DC6-435E-B7A6-6F450498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3C0-26E1-42E6-BF75-C41DF2B6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71F-8496-45D1-AFD6-0C149BD3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692-F619-4EE5-B458-6C4739DA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242-18BE-4AB6-B1A6-6E913278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B41-F51F-4F3D-83DE-294395D5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84A-5C16-4E02-9998-34293386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ED1-815E-4B45-AA49-9D9FAF44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B0C-1B03-4B38-8EB4-636D2FB6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698-9422-40C5-B91E-14F46D27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tr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t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t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t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t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t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t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t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t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t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t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t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CE3E-A684-431B-86FA-270704A0C7A8}" type="slidenum">
              <a:rPr b="0" lang="ar-SA" sz="1400" spc="-1" strike="noStrike">
                <a:solidFill>
                  <a:srgbClr val="ffffff"/>
                </a:solidFill>
                <a:latin typeface="Tit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t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84360" y="549360"/>
            <a:ext cx="6210000" cy="1152360"/>
          </a:xfrm>
          <a:prstGeom prst="rect">
            <a:avLst/>
          </a:prstGeom>
        </p:spPr>
        <p:txBody>
          <a:bodyPr wrap="none" lIns="90000" rIns="90000" tIns="46800" bIns="46800" anchor="t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Nazanin"/>
              </a:rPr>
              <a:t>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Nazanin"/>
              <a:ea typeface="Nazanin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cffff"/>
                </a:solidFill>
                <a:latin typeface="Titr"/>
                <a:cs typeface="Nazanin"/>
              </a:rPr>
              <a:t>موضوع: زمان بندی پروژه</a:t>
            </a:r>
            <a:endParaRPr b="0" lang="en-US" sz="44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ff0000"/>
                </a:solidFill>
                <a:latin typeface="Titr"/>
                <a:cs typeface="Nazanin"/>
              </a:rPr>
              <a:t>تهیه و تنظیم</a:t>
            </a:r>
            <a:r>
              <a:rPr b="1" lang="fa-IR" sz="3500" spc="-1" strike="noStrike">
                <a:solidFill>
                  <a:srgbClr val="ff0000"/>
                </a:solidFill>
                <a:latin typeface="Titr"/>
                <a:ea typeface="Nazanin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ctr" rtl="1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00"/>
                </a:solidFill>
                <a:latin typeface="Titr"/>
                <a:cs typeface="Nazanin"/>
              </a:rPr>
              <a:t>حسین یزدانی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ctr" rtl="1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00"/>
                </a:solidFill>
                <a:latin typeface="Titr"/>
                <a:cs typeface="B Titr"/>
              </a:rPr>
              <a:t>استاد: مهندس اقدم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ctr" rtl="1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ctr" rtl="1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tr"/>
                <a:ea typeface="B Titr"/>
              </a:rPr>
              <a:t>Dezhdl.rzb.ir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00"/>
                </a:solidFill>
                <a:latin typeface="Titr"/>
                <a:cs typeface="B Titr"/>
              </a:rPr>
              <a:t>سایت آموزشی و سرگرمی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Titr"/>
                <a:cs typeface="Zar"/>
              </a:rPr>
              <a:t>خروجي‌هاي اصلي حاصل از زمان‌بندي پروژه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tr"/>
              </a:rPr>
              <a:t> </a:t>
            </a:r>
            <a:r>
              <a:rPr b="0" lang="fa-IR" sz="2800" spc="-1" strike="noStrike">
                <a:solidFill>
                  <a:srgbClr val="ff0000"/>
                </a:solidFill>
                <a:latin typeface="Titr"/>
              </a:rPr>
              <a:t>زمان پايان (شروع) پروژه</a:t>
            </a:r>
            <a:r>
              <a:rPr b="0" lang="en-US" sz="2800" spc="-1" strike="noStrike">
                <a:solidFill>
                  <a:srgbClr val="ff0000"/>
                </a:solidFill>
                <a:latin typeface="Titr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0000"/>
                </a:solidFill>
                <a:latin typeface="Titr"/>
              </a:rPr>
              <a:t>زمان شروع و پايان هر فعاليت: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زودترين زمان شروع هر فعاليت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</a:rPr>
              <a:t>‌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زودترين زمان پايان  هر فعاليت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</a:rPr>
              <a:t>‌</a:t>
            </a:r>
            <a:r>
              <a:rPr b="0" lang="en-US" sz="2400" spc="-1" strike="noStrike">
                <a:solidFill>
                  <a:srgbClr val="ffffff"/>
                </a:solidFill>
                <a:latin typeface="Titr"/>
                <a:ea typeface="Mitr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ديرترين زمان شروع هر فعاليت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</a:rPr>
              <a:t>‌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ديرترين زمان پايان  هر فعاليت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</a:rPr>
              <a:t>‌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0000"/>
                </a:solidFill>
                <a:latin typeface="Titr"/>
              </a:rPr>
              <a:t>مقدار شناوري هر فعاليت‌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اختلاف بين زودترين و ديرترين زمان ... هر فعاليت برابر مقدار شناوري است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93" name="Oval 4"/>
          <p:cNvSpPr/>
          <p:nvPr/>
        </p:nvSpPr>
        <p:spPr>
          <a:xfrm>
            <a:off x="4714920" y="2500200"/>
            <a:ext cx="428760" cy="357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itr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94" name="Oval 5"/>
          <p:cNvSpPr/>
          <p:nvPr/>
        </p:nvSpPr>
        <p:spPr>
          <a:xfrm>
            <a:off x="4714920" y="2928960"/>
            <a:ext cx="428760" cy="357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itr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95" name="Oval 6"/>
          <p:cNvSpPr/>
          <p:nvPr/>
        </p:nvSpPr>
        <p:spPr>
          <a:xfrm>
            <a:off x="4714920" y="3357720"/>
            <a:ext cx="428760" cy="357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itr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96" name="Oval 7"/>
          <p:cNvSpPr/>
          <p:nvPr/>
        </p:nvSpPr>
        <p:spPr>
          <a:xfrm>
            <a:off x="4714920" y="3786120"/>
            <a:ext cx="428760" cy="357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itr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cxnSp>
        <p:nvCxnSpPr>
          <p:cNvPr id="97" name="Shape 10"/>
          <p:cNvCxnSpPr>
            <a:stCxn id="93" idx="2"/>
            <a:endCxn id="95" idx="2"/>
          </p:cNvCxnSpPr>
          <p:nvPr/>
        </p:nvCxnSpPr>
        <p:spPr>
          <a:xfrm flipV="1" rot="10800000">
            <a:off x="4714200" y="2677680"/>
            <a:ext cx="2160" cy="859680"/>
          </a:xfrm>
          <a:prstGeom prst="curvedConnector5">
            <a:avLst>
              <a:gd name="adj1" fmla="val 14380000"/>
              <a:gd name="adj2" fmla="val 49979"/>
              <a:gd name="adj3" fmla="val 14380000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98" name="Curved Connector 33"/>
          <p:cNvCxnSpPr>
            <a:stCxn id="94" idx="2"/>
            <a:endCxn id="96" idx="2"/>
          </p:cNvCxnSpPr>
          <p:nvPr/>
        </p:nvCxnSpPr>
        <p:spPr>
          <a:xfrm flipV="1" rot="10800000">
            <a:off x="4714200" y="3105720"/>
            <a:ext cx="2160" cy="859320"/>
          </a:xfrm>
          <a:prstGeom prst="curvedConnector5">
            <a:avLst>
              <a:gd name="adj1" fmla="val 14380000"/>
              <a:gd name="adj2" fmla="val 50000"/>
              <a:gd name="adj3" fmla="val 1438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99" name="Text Box 8"/>
          <p:cNvSpPr/>
          <p:nvPr/>
        </p:nvSpPr>
        <p:spPr>
          <a:xfrm>
            <a:off x="1285920" y="31431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</a:t>
            </a:r>
            <a:r>
              <a:rPr b="0" lang="fa-IR" sz="1800" spc="-1" strike="noStrike">
                <a:solidFill>
                  <a:srgbClr val="ffffff"/>
                </a:solidFill>
                <a:latin typeface="Titr"/>
              </a:rPr>
              <a:t> </a:t>
            </a:r>
            <a:r>
              <a:rPr b="0" lang="fa-IR" sz="1800" spc="-1" strike="noStrike">
                <a:solidFill>
                  <a:srgbClr val="ffffff"/>
                </a:solidFill>
                <a:latin typeface="Titr"/>
                <a:cs typeface="Mitra"/>
              </a:rPr>
              <a:t>تفاوت برابر با مقدار شناوري فعاليت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Titr"/>
                <a:cs typeface="Zar"/>
              </a:rPr>
              <a:t>خروجي‌هاي فرعي حاصل از زمان‌بندي پروژه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 algn="r" rtl="1">
              <a:spcBef>
                <a:spcPts val="700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Titr"/>
              </a:rPr>
              <a:t>جدول برنامه اجراي فعاليت‌ها</a:t>
            </a:r>
            <a:r>
              <a:rPr b="1" lang="en-US" sz="2800" spc="-1" strike="noStrike">
                <a:solidFill>
                  <a:srgbClr val="ff0000"/>
                </a:solidFill>
                <a:latin typeface="Titr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marL="591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tr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11280" y="2533680"/>
          <a:ext cx="7777080" cy="3287520"/>
        </p:xfrm>
        <a:graphic>
          <a:graphicData uri="http://schemas.openxmlformats.org/drawingml/2006/table">
            <a:tbl>
              <a:tblPr/>
              <a:tblGrid>
                <a:gridCol w="1657080"/>
                <a:gridCol w="1224000"/>
                <a:gridCol w="1295640"/>
                <a:gridCol w="2089080"/>
                <a:gridCol w="719280"/>
                <a:gridCol w="792000"/>
              </a:tblGrid>
              <a:tr h="88596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ملاحظات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زمان پايان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زمان شرو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عنوان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كد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6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ردي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156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Titr"/>
                <a:cs typeface="Zar"/>
              </a:rPr>
              <a:t>خروجي‌هاي فرعي حاصل از زمان‌بندي پروژه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r" rtl="1">
              <a:spcBef>
                <a:spcPts val="700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Titr"/>
              </a:rPr>
              <a:t>برنامه بکارگيري نيروي انساني موجود پروژه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00000" y="2276640"/>
          <a:ext cx="7480440" cy="3149280"/>
        </p:xfrm>
        <a:graphic>
          <a:graphicData uri="http://schemas.openxmlformats.org/drawingml/2006/table">
            <a:tbl>
              <a:tblPr/>
              <a:tblGrid>
                <a:gridCol w="1873440"/>
                <a:gridCol w="718920"/>
                <a:gridCol w="1152720"/>
                <a:gridCol w="1222200"/>
                <a:gridCol w="1354320"/>
                <a:gridCol w="463320"/>
                <a:gridCol w="695520"/>
              </a:tblGrid>
              <a:tr h="757080"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نفر ـ ساعت معرفي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نق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زمان پايا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زمان شرو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عنوان فعاليت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كد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ردي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96520">
                <a:tc>
                  <a:txBody>
                    <a:bodyPr lIns="90000" rIns="90000" tIns="43200" bIns="432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76"/>
          <p:cNvSpPr/>
          <p:nvPr/>
        </p:nvSpPr>
        <p:spPr>
          <a:xfrm>
            <a:off x="3111480" y="572940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براي هر فردي كه در پروژه مشغول به كار شود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ea typeface="Mitr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Titr"/>
                <a:cs typeface="Zar"/>
              </a:rPr>
              <a:t>خروجي‌هاي فرعي حاصل از زمان‌بندي پروژه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Titr"/>
              </a:rPr>
              <a:t>برنامه تامين نيروي انساني پروژه</a:t>
            </a:r>
            <a:r>
              <a:rPr b="0" lang="en-US" sz="2800" spc="-1" strike="noStrike">
                <a:solidFill>
                  <a:srgbClr val="ff0000"/>
                </a:solidFill>
                <a:latin typeface="Titr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2349360"/>
          <a:ext cx="8112240" cy="3743640"/>
        </p:xfrm>
        <a:graphic>
          <a:graphicData uri="http://schemas.openxmlformats.org/drawingml/2006/table">
            <a:tbl>
              <a:tblPr/>
              <a:tblGrid>
                <a:gridCol w="2028600"/>
                <a:gridCol w="2291040"/>
                <a:gridCol w="3097080"/>
                <a:gridCol w="6955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ملاحظا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نفر ـ ساعت مورد نيا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عنوان تخصص و مهار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ردي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Titr"/>
                <a:cs typeface="Zar"/>
              </a:rPr>
              <a:t>خروجي‌هاي فرعي حاصل از زمان‌بندي پروژه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571680" y="1857240"/>
            <a:ext cx="81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Titr"/>
              </a:rPr>
              <a:t>    برنامه بکارگيري ابزار و تجهيزات موجود پروژه</a:t>
            </a:r>
            <a:r>
              <a:rPr b="1" lang="en-US" sz="2800" spc="-1" strike="noStrike">
                <a:solidFill>
                  <a:srgbClr val="ff0000"/>
                </a:solidFill>
                <a:latin typeface="Titr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tr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00040" y="2786040"/>
          <a:ext cx="7966080" cy="2879640"/>
        </p:xfrm>
        <a:graphic>
          <a:graphicData uri="http://schemas.openxmlformats.org/drawingml/2006/table">
            <a:tbl>
              <a:tblPr/>
              <a:tblGrid>
                <a:gridCol w="1386000"/>
                <a:gridCol w="1385640"/>
                <a:gridCol w="1386000"/>
                <a:gridCol w="1386000"/>
                <a:gridCol w="1727280"/>
                <a:gridCol w="6951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ماشين ـ ساعت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مكا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پايا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شرو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عنوان فعاليت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ردي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Titr"/>
                <a:cs typeface="Zar"/>
              </a:rPr>
              <a:t>خروجي‌هاي فرعي حاصل از زمان‌بندي پروژه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Titr"/>
              </a:rPr>
              <a:t>برنامه تامين ابزار و تجهيزات پروژه</a:t>
            </a:r>
            <a:r>
              <a:rPr b="1" lang="en-US" sz="2800" spc="-1" strike="noStrike">
                <a:solidFill>
                  <a:srgbClr val="ff0000"/>
                </a:solidFill>
                <a:latin typeface="Titr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42880" y="2244600"/>
          <a:ext cx="7989840" cy="3848400"/>
        </p:xfrm>
        <a:graphic>
          <a:graphicData uri="http://schemas.openxmlformats.org/drawingml/2006/table">
            <a:tbl>
              <a:tblPr/>
              <a:tblGrid>
                <a:gridCol w="1332000"/>
                <a:gridCol w="2122560"/>
                <a:gridCol w="934920"/>
                <a:gridCol w="934920"/>
                <a:gridCol w="2017800"/>
                <a:gridCol w="647640"/>
              </a:tblGrid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محل تام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ماشين ـ ساعت مورد نيا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تا تاريخ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از تاريخ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عنوان ابزا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ردي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Titr"/>
                <a:cs typeface="Zar"/>
              </a:rPr>
              <a:t>خروجي‌هاي فرعي حاصل از زمان‌بندي پروژه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r" rtl="1">
              <a:spcBef>
                <a:spcPts val="700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Titr"/>
              </a:rPr>
              <a:t>برنامه مصرف مواد و ملزومات موجود پروژه</a:t>
            </a:r>
            <a:r>
              <a:rPr b="1" lang="en-US" sz="2800" spc="-1" strike="noStrike">
                <a:solidFill>
                  <a:srgbClr val="ff0000"/>
                </a:solidFill>
                <a:latin typeface="Titr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2880" y="2244600"/>
          <a:ext cx="7989840" cy="3848400"/>
        </p:xfrm>
        <a:graphic>
          <a:graphicData uri="http://schemas.openxmlformats.org/drawingml/2006/table">
            <a:tbl>
              <a:tblPr/>
              <a:tblGrid>
                <a:gridCol w="1220760"/>
                <a:gridCol w="936720"/>
                <a:gridCol w="1008000"/>
                <a:gridCol w="1079640"/>
                <a:gridCol w="3097080"/>
                <a:gridCol w="647640"/>
              </a:tblGrid>
              <a:tr h="80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مقدار نيا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واحد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تا تاريخ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از تاريخ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عنوان ملزوم/ ماده معرفي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ردي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Titr"/>
                <a:cs typeface="Zar"/>
              </a:rPr>
              <a:t>خروجي‌هاي فرعي حاصل از زمان‌بندي پروژه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r" rtl="1">
              <a:spcBef>
                <a:spcPts val="700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Titr"/>
              </a:rPr>
              <a:t>برنامه تامين مواد و ملزومات پروژه</a:t>
            </a:r>
            <a:r>
              <a:rPr b="1" lang="en-US" sz="2800" spc="-1" strike="noStrike">
                <a:solidFill>
                  <a:srgbClr val="ff0000"/>
                </a:solidFill>
                <a:latin typeface="Titr"/>
              </a:rPr>
              <a:t> </a:t>
            </a:r>
            <a:r>
              <a:rPr b="1" lang="fa-IR" sz="2800" spc="-1" strike="noStrike">
                <a:solidFill>
                  <a:srgbClr val="ff0000"/>
                </a:solidFill>
                <a:latin typeface="Titr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2276640"/>
          <a:ext cx="7993080" cy="381636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216080"/>
                <a:gridCol w="708120"/>
                <a:gridCol w="782640"/>
                <a:gridCol w="2206440"/>
                <a:gridCol w="647640"/>
              </a:tblGrid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تاريخ تام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مقدار تام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محل تامين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مقدا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واحد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عنوان ملزوم/ ماده معرفي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200" spc="-1" strike="noStrike">
                          <a:solidFill>
                            <a:srgbClr val="ffffff"/>
                          </a:solidFill>
                          <a:latin typeface="B Titr"/>
                          <a:cs typeface="Mitra"/>
                        </a:rPr>
                        <a:t>ردي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Titr"/>
                <a:cs typeface="Zar"/>
              </a:rPr>
              <a:t>تاثير منابع در زمان‌بندي پروژه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tr"/>
                <a:cs typeface="Mitra"/>
              </a:rPr>
              <a:t>عوامل موثر در تعيين زمان شروع و پايان فعاليت‌هاي پروژه: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تقدم و تاخر منطقي فعاليت شبكه فعاليت‌ها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مقدار منابع موجود در پروژه در هر مقطع زماني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براي فعاليتهاي همزمان بايد منابع</a:t>
            </a:r>
            <a:r>
              <a:rPr b="0" lang="en-US" sz="2400" spc="-1" strike="noStrike">
                <a:solidFill>
                  <a:srgbClr val="ffffff"/>
                </a:solidFill>
                <a:latin typeface="Titr"/>
                <a:ea typeface="Mitra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كافي داشته باشيم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tr"/>
              </a:rPr>
              <a:t> </a:t>
            </a:r>
            <a:r>
              <a:rPr b="1" lang="fa-IR" sz="4000" spc="-1" strike="noStrike">
                <a:solidFill>
                  <a:srgbClr val="ccffff"/>
                </a:solidFill>
                <a:latin typeface="Titr"/>
                <a:cs typeface="Zar"/>
              </a:rPr>
              <a:t>تسطيح منابع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Titr"/>
              </a:rPr>
              <a:t>(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Resource Leveling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</a:rPr>
              <a:t>)</a:t>
            </a:r>
            <a:r>
              <a:rPr b="0" lang="fa-IR" sz="3600" spc="-1" strike="noStrike">
                <a:solidFill>
                  <a:srgbClr val="ccffff"/>
                </a:solidFill>
                <a:latin typeface="Tit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601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tr"/>
              </a:rPr>
              <a:t>کمبود منابع در مدت انجام پروژه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فعاليت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</a:rPr>
              <a:t>‌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هاي پروژه براساس روابط منطقي بين آنها، به صورت هم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</a:rPr>
              <a:t>‌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زمان قابل اجرا مي‌باشد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منابع مورد نياز براي انجام هم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</a:rPr>
              <a:t>‌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زمان فعاليت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</a:rPr>
              <a:t>‌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ها را نتوان تامين نمود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08520" indent="-308520" algn="r" rtl="1">
              <a:spcBef>
                <a:spcPts val="601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tr"/>
              </a:rPr>
              <a:t>هدف و اقدام براي تسطيح منابع در پروژه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هدف: حداقل نمودن اوقاتي كه پروژه دچار كمبود منابع مي‌گردد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668520" indent="-2570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اقدامات: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2" marL="1028520" indent="-205560" algn="r" rtl="1">
              <a:spcBef>
                <a:spcPts val="601"/>
              </a:spcBef>
              <a:buClr>
                <a:srgbClr val="ffffff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ايجاد تاخير در شروع فعاليت‌هاي غيربحراني با توجه به ميزان شناوري آنها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2" marL="1028520" indent="-205560" algn="r" rtl="1">
              <a:spcBef>
                <a:spcPts val="601"/>
              </a:spcBef>
              <a:buClr>
                <a:srgbClr val="ffffff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قطع موقت فعاليت‌هاي غيربحراني و از سرگيري آنها بعد از رفع کمبود منابع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ccffff"/>
                </a:solidFill>
                <a:latin typeface="Titr"/>
                <a:ea typeface="Zar"/>
              </a:rPr>
              <a:t> فرآيند برنامه ريزي پروژه </a:t>
            </a:r>
            <a:endParaRPr b="0" lang="en-US" sz="40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lvl="1" marL="914400" indent="-514440" algn="r" rtl="1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طراحي و تعيين فهرست فعاليتهاي پروژه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914400" indent="-514440" algn="r" rtl="1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تعيين تقدم و تاخر انجام فعاليتهاي پروژه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914400" indent="-514440" algn="r" rtl="1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تخصيص منابع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914400" indent="-514440" algn="r" rtl="1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itr"/>
                <a:cs typeface="Nazanin"/>
              </a:rPr>
              <a:t>زمانبندي پروژه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914400" indent="-514440" algn="r" rtl="1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محاسبه جريان نقدينگي و بودجه بندي پروژه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ffff"/>
                </a:solidFill>
                <a:latin typeface="Titr"/>
                <a:cs typeface="Zar"/>
              </a:rPr>
              <a:t>زمان‌بندي پروژه بدون توجه به تقدم و تاخر يا تخصيص منابع</a:t>
            </a:r>
            <a:r>
              <a:rPr b="1" lang="en-US" sz="28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28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tr"/>
                <a:cs typeface="Mitra"/>
              </a:rPr>
              <a:t>نكته: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tr"/>
                <a:ea typeface="Mitra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زمان شروع و پايان فعاليت‌ها را مي‌توان بدون توجه به رويه تشريح شده در زمان‌بندي و مبتني بر تجربه و تشخيص مدير پروژه نيز انجام داد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اين كار براي كساني كه بدون تجربه‌ اند ممكن نيست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66ccff"/>
                </a:solidFill>
                <a:latin typeface="Titr"/>
                <a:cs typeface="2  Baran"/>
              </a:rPr>
              <a:t>روشهاي  مختلف برنامه ريزي و زمانبندي كار</a:t>
            </a:r>
            <a:r>
              <a:rPr b="0" lang="fa-IR" sz="4000" spc="-1" strike="noStrike">
                <a:solidFill>
                  <a:srgbClr val="66ccff"/>
                </a:solidFill>
                <a:latin typeface="Titr"/>
                <a:ea typeface="2  Bar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tr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Titr"/>
              </a:rPr>
              <a:t>. برنامه زماني كار 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tr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Titr"/>
              </a:rPr>
              <a:t>.چارچوب </a:t>
            </a:r>
            <a:r>
              <a:rPr b="0" lang="en-US" sz="3200" spc="-1" strike="noStrike">
                <a:solidFill>
                  <a:srgbClr val="ffffff"/>
                </a:solidFill>
                <a:latin typeface="Titr"/>
              </a:rPr>
              <a:t>GANTT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b000"/>
                </a:solidFill>
                <a:latin typeface="Titr"/>
                <a:cs typeface="2  Baran"/>
              </a:rPr>
              <a:t>برنامه زماني كار</a:t>
            </a:r>
            <a:r>
              <a:rPr b="0" lang="fa-IR" sz="4400" spc="-1" strike="noStrike">
                <a:solidFill>
                  <a:srgbClr val="ccffff"/>
                </a:solidFill>
                <a:latin typeface="Titr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66ccff"/>
                </a:solidFill>
                <a:latin typeface="Titr"/>
                <a:cs typeface="2  Baran"/>
              </a:rPr>
              <a:t>يك برنامه زماني كار جدولي است كه عمليات مورد نظر براي اجرادر يك پروژه ت حقيقاتي و طول زمان هر يك از فعاليتها را خلاصه مي كند .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66ccff"/>
                </a:solidFill>
                <a:latin typeface="Titr"/>
                <a:cs typeface="2  Baran"/>
              </a:rPr>
              <a:t>برنامه زماني كار شامل موارد زير است :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tr"/>
              </a:rPr>
              <a:t>□</a:t>
            </a:r>
            <a:r>
              <a:rPr b="0" lang="fa-IR" sz="2800" spc="-1" strike="noStrike">
                <a:solidFill>
                  <a:srgbClr val="66ccff"/>
                </a:solidFill>
                <a:latin typeface="Titr"/>
                <a:cs typeface="2  Baran"/>
              </a:rPr>
              <a:t>عملياتي كه بايستي به اجرا در آيد .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tr"/>
              </a:rPr>
              <a:t>□</a:t>
            </a:r>
            <a:r>
              <a:rPr b="0" lang="fa-IR" sz="2800" spc="-1" strike="noStrike">
                <a:solidFill>
                  <a:srgbClr val="66ccff"/>
                </a:solidFill>
                <a:latin typeface="Titr"/>
                <a:cs typeface="2  Baran"/>
              </a:rPr>
              <a:t>تاريخ آغاز و خاتمه هر يك از عمليات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tr"/>
              </a:rPr>
              <a:t>□</a:t>
            </a:r>
            <a:r>
              <a:rPr b="0" lang="fa-IR" sz="2800" spc="-1" strike="noStrike">
                <a:solidFill>
                  <a:srgbClr val="66ccff"/>
                </a:solidFill>
                <a:latin typeface="Titr"/>
                <a:cs typeface="2  Baran"/>
              </a:rPr>
              <a:t>شخص _ روز كار ، تخصص مورد نياز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tr"/>
              </a:rPr>
              <a:t>□</a:t>
            </a:r>
            <a:r>
              <a:rPr b="0" lang="fa-IR" sz="2800" spc="-1" strike="noStrike">
                <a:solidFill>
                  <a:srgbClr val="66ccff"/>
                </a:solidFill>
                <a:latin typeface="Titr"/>
                <a:cs typeface="2  Baran"/>
              </a:rPr>
              <a:t>پرسنل متخصص مشخص شده براي عمليات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tr"/>
              </a:rPr>
              <a:t>□</a:t>
            </a:r>
            <a:r>
              <a:rPr b="0" lang="fa-IR" sz="2800" spc="-1" strike="noStrike">
                <a:solidFill>
                  <a:srgbClr val="66ccff"/>
                </a:solidFill>
                <a:latin typeface="Titr"/>
                <a:ea typeface="2  Baran"/>
              </a:rPr>
              <a:t> شخص_روز كار،غير تخصصي مورد نياز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tr"/>
              </a:rPr>
              <a:t>□</a:t>
            </a:r>
            <a:r>
              <a:rPr b="0" lang="fa-IR" sz="2800" spc="-1" strike="noStrike">
                <a:solidFill>
                  <a:srgbClr val="66ccff"/>
                </a:solidFill>
                <a:latin typeface="Titr"/>
                <a:ea typeface="2  Baran"/>
              </a:rPr>
              <a:t> پرسنل غير تخصص مشخص شده براي عمليات 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ccffff"/>
                </a:solidFill>
                <a:latin typeface="Titr"/>
                <a:cs typeface="2  Baran"/>
              </a:rPr>
              <a:t>جدول برنامه زماني كار</a:t>
            </a:r>
            <a:r>
              <a:rPr b="0" lang="fa-IR" sz="4400" spc="-1" strike="noStrike">
                <a:solidFill>
                  <a:srgbClr val="ccffff"/>
                </a:solidFill>
                <a:latin typeface="Titr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905120"/>
          <a:ext cx="8229600" cy="4359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37628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پرسنل غير متخص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شخص –روز كار غير تخصصي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پرسنل متخصص در نظر گرفته شده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شخص –روز كار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خصصي لاز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هفته تقويمي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اريخ آغاز وپايان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شرح عمليات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440" bIns="464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Titr"/>
                <a:cs typeface="2  Baran"/>
              </a:rPr>
              <a:t>مثالي از يك برنامه زماني كار</a:t>
            </a:r>
            <a:r>
              <a:rPr b="0" lang="fa-IR" sz="4400" spc="-1" strike="noStrike">
                <a:solidFill>
                  <a:srgbClr val="ccffff"/>
                </a:solidFill>
                <a:latin typeface="Titr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341360"/>
          <a:ext cx="8013600" cy="5956200"/>
        </p:xfrm>
        <a:graphic>
          <a:graphicData uri="http://schemas.openxmlformats.org/drawingml/2006/table">
            <a:tbl>
              <a:tblPr/>
              <a:tblGrid>
                <a:gridCol w="792000"/>
                <a:gridCol w="1440000"/>
                <a:gridCol w="1368360"/>
                <a:gridCol w="1366920"/>
                <a:gridCol w="1512720"/>
                <a:gridCol w="1533600"/>
              </a:tblGrid>
              <a:tr h="1315080"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پرسنل كار تخصصي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شخص –روز كار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غير تخصصي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پرسنل متخصص در نظر گرفته شده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شخص –روز كار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تخصصي لازم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هفته تقويمي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تاريخ آغاز وپايان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شرح عمليات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6960"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ايپيست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يكنفر </a:t>
                      </a: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4</a:t>
                      </a: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روز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مجريان طرح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دونفر -</a:t>
                      </a: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16</a:t>
                      </a: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 روز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هفته </a:t>
                      </a: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1</a:t>
                      </a: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-</a:t>
                      </a: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9</a:t>
                      </a: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ا</a:t>
                      </a: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30</a:t>
                      </a: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مهر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1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هيه طرح وارائه به دانشگاه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هفته 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3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-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4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22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 مهر تا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7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آبان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صويب طرح در دانشگاه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مجريان طرح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دونفر -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5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روز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هفته 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5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-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6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8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ا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22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آبان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هيه مواد ووسايل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مجريان طرح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دونفر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50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 روز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هفته 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7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-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14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23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آبان تا 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22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دي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گرفتن نمونه ومراحل اجرايي پژوهش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5080"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مجريان طرح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همكار آماري طرح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سه نفر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25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روز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هفته 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15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ا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1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23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دي تا 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23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بهمن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جزيه وتحليل نتايج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ايپيست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يك نفر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5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روز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مجريان طرح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دونفر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10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روز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هفته 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19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ا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2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24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بهمن تا 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ea typeface="2  Baran"/>
                        </a:rPr>
                        <a:t>7</a:t>
                      </a: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اسفند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8240" bIns="4824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900" spc="-1" strike="noStrike">
                          <a:solidFill>
                            <a:srgbClr val="66ccff"/>
                          </a:solidFill>
                          <a:latin typeface="Tahoma"/>
                          <a:cs typeface="2  Baran"/>
                        </a:rPr>
                        <a:t>تايپ و تكثير وصحافي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000000"/>
                </a:solidFill>
                <a:latin typeface="Titr"/>
                <a:cs typeface="2  Baran"/>
              </a:rPr>
              <a:t>چارچوب</a:t>
            </a:r>
            <a:r>
              <a:rPr b="1" lang="fa-IR" sz="4400" spc="-1" strike="noStrike">
                <a:solidFill>
                  <a:srgbClr val="000000"/>
                </a:solidFill>
                <a:latin typeface="Titr"/>
                <a:ea typeface="2  Bar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tr"/>
                <a:ea typeface="2  Baran"/>
              </a:rPr>
              <a:t>GANTT</a:t>
            </a: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tr"/>
                <a:cs typeface="2  Baran"/>
              </a:rPr>
              <a:t>چارچوب </a:t>
            </a:r>
            <a:r>
              <a:rPr b="0" lang="en-US" sz="1600" spc="-1" strike="noStrike">
                <a:solidFill>
                  <a:srgbClr val="ffffff"/>
                </a:solidFill>
                <a:latin typeface="Titr"/>
                <a:ea typeface="2  Baran"/>
              </a:rPr>
              <a:t>GANTT</a:t>
            </a:r>
            <a:r>
              <a:rPr b="0" lang="fa-IR" sz="1600" spc="-1" strike="noStrike">
                <a:solidFill>
                  <a:srgbClr val="ffffff"/>
                </a:solidFill>
                <a:latin typeface="Titr"/>
                <a:ea typeface="2  Baran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itr"/>
                <a:cs typeface="2  Baran"/>
              </a:rPr>
              <a:t>نوعي نمايش گرافيك فعاليتهاي برنامه ريزي است كه در آن عمليات مختلف به ترتيب تكميل وطول مدت نشان داده مي شود .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tr"/>
                <a:cs typeface="2  Baran"/>
              </a:rPr>
              <a:t>چارچوب </a:t>
            </a:r>
            <a:r>
              <a:rPr b="0" lang="en-US" sz="1600" spc="-1" strike="noStrike">
                <a:solidFill>
                  <a:srgbClr val="ffffff"/>
                </a:solidFill>
                <a:latin typeface="Titr"/>
                <a:ea typeface="2  Baran"/>
              </a:rPr>
              <a:t>GANTT</a:t>
            </a:r>
            <a:r>
              <a:rPr b="0" lang="fa-IR" sz="1600" spc="-1" strike="noStrike">
                <a:solidFill>
                  <a:srgbClr val="ffffff"/>
                </a:solidFill>
                <a:latin typeface="Titr"/>
                <a:ea typeface="2  Baran"/>
              </a:rPr>
              <a:t> </a:t>
            </a:r>
            <a:r>
              <a:rPr b="1" lang="fa-IR" sz="3200" spc="-1" strike="noStrike">
                <a:solidFill>
                  <a:srgbClr val="ccffff"/>
                </a:solidFill>
                <a:latin typeface="Titr"/>
                <a:cs typeface="2  Baran"/>
              </a:rPr>
              <a:t>موارد زير را فهرست مي كند :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tr"/>
              </a:rPr>
              <a:t>□</a:t>
            </a:r>
            <a:r>
              <a:rPr b="0" lang="fa-IR" sz="3200" spc="-1" strike="noStrike">
                <a:solidFill>
                  <a:srgbClr val="66ccff"/>
                </a:solidFill>
                <a:latin typeface="Titr"/>
                <a:ea typeface="2  Baran"/>
              </a:rPr>
              <a:t> عملياتي كه بايستي انجام گيرد .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tr"/>
              </a:rPr>
              <a:t>□</a:t>
            </a:r>
            <a:r>
              <a:rPr b="0" lang="fa-IR" sz="3200" spc="-1" strike="noStrike">
                <a:solidFill>
                  <a:srgbClr val="66ccff"/>
                </a:solidFill>
                <a:latin typeface="Titr"/>
                <a:cs typeface="2  Baran"/>
              </a:rPr>
              <a:t>زمان اجراي هر يك از عمليات ها 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tr"/>
              </a:rPr>
              <a:t>□</a:t>
            </a:r>
            <a:r>
              <a:rPr b="0" lang="fa-IR" sz="3200" spc="-1" strike="noStrike">
                <a:solidFill>
                  <a:srgbClr val="66ccff"/>
                </a:solidFill>
                <a:latin typeface="Titr"/>
                <a:ea typeface="2  Baran"/>
              </a:rPr>
              <a:t> زماني كه پيش بيني مي شود هر يك از عملياتها به طول انجامد . </a:t>
            </a:r>
            <a:endParaRPr b="0" lang="en-US" sz="32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Titr"/>
                <a:cs typeface="2  Baran"/>
              </a:rPr>
              <a:t>جدول چارچوب</a:t>
            </a:r>
            <a:r>
              <a:rPr b="0" lang="en-US" sz="6000" spc="-1" strike="noStrike">
                <a:solidFill>
                  <a:srgbClr val="000000"/>
                </a:solidFill>
                <a:latin typeface="Titr"/>
                <a:ea typeface="2  Bar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tr"/>
                <a:ea typeface="2  Baran"/>
              </a:rPr>
              <a:t>GANTT</a:t>
            </a: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905120"/>
          <a:ext cx="8229600" cy="3868560"/>
        </p:xfrm>
        <a:graphic>
          <a:graphicData uri="http://schemas.openxmlformats.org/drawingml/2006/table">
            <a:tbl>
              <a:tblPr/>
              <a:tblGrid>
                <a:gridCol w="585720"/>
                <a:gridCol w="720720"/>
                <a:gridCol w="647640"/>
                <a:gridCol w="576360"/>
                <a:gridCol w="792360"/>
                <a:gridCol w="792000"/>
                <a:gridCol w="2057400"/>
                <a:gridCol w="2057400"/>
              </a:tblGrid>
              <a:tr h="579240">
                <a:tc gridSpan="5"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32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زمان اجرا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طول مدت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شرح هر يك از فعاليتهاي اجرايي طرح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رديف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ماه پنج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ماه چهار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ماه سو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ماه دو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b000"/>
                          </a:solidFill>
                          <a:latin typeface="Tahoma"/>
                          <a:cs typeface="2  Baran"/>
                        </a:rPr>
                        <a:t>ماه اول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Titr"/>
              </a:rPr>
              <a:t>مثالي از يك چارچوب </a:t>
            </a:r>
            <a:r>
              <a:rPr b="1" lang="en-US" sz="4400" spc="-1" strike="noStrike">
                <a:solidFill>
                  <a:srgbClr val="000000"/>
                </a:solidFill>
                <a:latin typeface="Titr"/>
                <a:ea typeface="2  Baran"/>
              </a:rPr>
              <a:t>GANTT</a:t>
            </a:r>
            <a:r>
              <a:rPr b="0" lang="fa-IR" sz="4400" spc="-1" strike="noStrike">
                <a:solidFill>
                  <a:srgbClr val="ccffff"/>
                </a:solidFill>
                <a:latin typeface="Titr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tr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905120"/>
          <a:ext cx="8229600" cy="4586040"/>
        </p:xfrm>
        <a:graphic>
          <a:graphicData uri="http://schemas.openxmlformats.org/drawingml/2006/table">
            <a:tbl>
              <a:tblPr/>
              <a:tblGrid>
                <a:gridCol w="730080"/>
                <a:gridCol w="720720"/>
                <a:gridCol w="719280"/>
                <a:gridCol w="865080"/>
                <a:gridCol w="792360"/>
                <a:gridCol w="1655640"/>
                <a:gridCol w="1717920"/>
                <a:gridCol w="1028520"/>
              </a:tblGrid>
              <a:tr h="821880">
                <a:tc gridSpan="5"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زمان اجرا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طول مدت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شرح هر يك از فعاليتهاي اجرايي طرح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ردي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ea typeface="2  Baran"/>
                        </a:rPr>
                        <a:t>1</a:t>
                      </a: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ماه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تهيه طرح وارائه به دانشگاه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ea typeface="2  Baran"/>
                        </a:rPr>
                        <a:t>1</a:t>
                      </a: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ماه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تصويب طرح در دانشگاه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ea typeface="2  Baran"/>
                        </a:rPr>
                        <a:t>15</a:t>
                      </a: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رو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تهيه مواد ووسايل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ea typeface="2  Baran"/>
                        </a:rPr>
                        <a:t>2</a:t>
                      </a: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ماه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گرفتن نمونه واجراي پژوه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ea typeface="2  Baran"/>
                        </a:rPr>
                        <a:t>1</a:t>
                      </a: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ماه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تجزيه وتحليل نتايج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ea typeface="2  Baran"/>
                        </a:rPr>
                        <a:t>1</a:t>
                      </a: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ما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800" spc="-1" strike="noStrike">
                          <a:solidFill>
                            <a:srgbClr val="ffffff"/>
                          </a:solidFill>
                          <a:latin typeface="Tahoma"/>
                          <a:cs typeface="2  Baran"/>
                        </a:rPr>
                        <a:t>تايپ وتكثير وصحافي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tr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tr"/>
            </a:endParaRPr>
          </a:p>
          <a:p>
            <a:pPr marL="329040" indent="-329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ffff"/>
                </a:solidFill>
                <a:latin typeface="Titr"/>
              </a:rPr>
              <a:t>پایان</a:t>
            </a:r>
            <a:endParaRPr b="0" lang="en-US" sz="6000" spc="-1" strike="noStrike">
              <a:solidFill>
                <a:srgbClr val="ffffff"/>
              </a:solidFill>
              <a:latin typeface="Titr"/>
            </a:endParaRPr>
          </a:p>
          <a:p>
            <a:pPr marL="329040" indent="-329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tr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00"/>
                </a:solidFill>
                <a:latin typeface="Titr"/>
                <a:cs typeface="B Titr"/>
              </a:rPr>
              <a:t>سایت آموزشی و سرگرمی</a:t>
            </a:r>
            <a:endParaRPr b="0" lang="en-US" sz="4000" spc="-1" strike="noStrike">
              <a:solidFill>
                <a:srgbClr val="ffffff"/>
              </a:solidFill>
              <a:latin typeface="Titr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tr"/>
                <a:ea typeface="B Titr"/>
              </a:rPr>
              <a:t>Dezhdl.rzb.ir</a:t>
            </a:r>
            <a:endParaRPr b="0" lang="en-US" sz="4000" spc="-1" strike="noStrike">
              <a:solidFill>
                <a:srgbClr val="ffffff"/>
              </a:solidFill>
              <a:latin typeface="Titr"/>
            </a:endParaRPr>
          </a:p>
          <a:p>
            <a:pPr marL="329040" indent="-329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tr"/>
            </a:endParaRPr>
          </a:p>
          <a:p>
            <a:pPr marL="329040" indent="-329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t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ccffff"/>
                </a:solidFill>
                <a:latin typeface="Titr"/>
              </a:rPr>
              <a:t>مدیریت زمان پروژه :</a:t>
            </a:r>
            <a:endParaRPr b="0" lang="en-US" sz="40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توصیف‌گر فرایندهای لازم برای حصول اطمینان از خاتمه به‌موقع پروژه می‌باشد و شامل تعریف ارتباط فعالیتها ، برآورد مدت زمان فعالیتها ، تهیه برنامه زمانی و كنترل زمانبندی آنهاست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ea typeface="Nazani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بدون زمان‌بندی مناسب ، قبل ‌از آنكه كاری انجام ‌شده ‌باشد ، به موعد تحویل می‌رسید. مدیر می‌تواند با صرف هزینه‌ بیشتر ، منابع ، انسان و ابزار بیشتری تامین ‌كند ؛ اما زمان را نمی‌تواند به ‌هیچ ‌شكلی تهیه ‌كند.تقریبا اغلب مدیران ناموفق پروژه ، اعتبار خود را به‌ دلیل رعایت ‌نكردن زمان و تحویل ندادن به‌ موقع نتایج از دست ‌داده‌اند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ea typeface="Nazanin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ea typeface="Nazani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Titr"/>
                <a:cs typeface="Zar"/>
              </a:rPr>
              <a:t>مفهوم زمان‌بندي پروژه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تعريف: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محاسبه زمان شروع و پايان پروژه: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زمان‌بندي رو به جلو: تعيين زمان پايان پروژه (با فرض زمان شروع مشخص) 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زمان‌بندي رو به عقب: تعيين زمان شروع پروژه (با فرض زمان پايان مشخص)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تعيين زمان شروع و پايان هر فعاليت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</p:txBody>
      </p:sp>
      <p:pic>
        <p:nvPicPr>
          <p:cNvPr id="57" name="Picture 3" descr="schedule-manager.jpg"/>
          <p:cNvPicPr/>
          <p:nvPr/>
        </p:nvPicPr>
        <p:blipFill>
          <a:blip r:embed="rId1"/>
          <a:stretch/>
        </p:blipFill>
        <p:spPr>
          <a:xfrm>
            <a:off x="857160" y="3929040"/>
            <a:ext cx="3175200" cy="257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a-IR" sz="4000" spc="-1" strike="noStrike">
                <a:solidFill>
                  <a:srgbClr val="ccffff"/>
                </a:solidFill>
                <a:latin typeface="Titr"/>
                <a:cs typeface="Nazanin"/>
              </a:rPr>
              <a:t>محدودیت زمان در پروژه :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زمان برای هیچ‌كس صبر نمی‌كند به ‌خصوص برای مدیر پروژه‌ای كه باید ساخته‌اش را در زمان معینی تحویل ‌دهد . برنامه پروژه به دلیل مشخص‌ كردن زمانی برای تحویل‌ كار ، به ‌معنای ترسیم یك قید برای پروژه ، همواره یك محدودیت است . به ‌خصوص در پروژه‌های به‌ هم‌پیوسته كه خروجی‌های یكی به‌ عنوان ابزار یا بخشی از محصول نهایی پروژه دیگر است ، فشار بر مدیران برای تحویل به‌ موقع بیشتر است در چنین مواقعی برنامه پروژه و منابع موردنیاز بر مبنای زمان از پیش تعیین‌شده ، تعیین‌می‌شوند ؛ در صنعت این‌گونه برنامه‌ریزی را </a:t>
            </a:r>
            <a:r>
              <a:rPr b="0" lang="en-US" sz="1600" spc="-1" strike="noStrike">
                <a:solidFill>
                  <a:srgbClr val="ffffff"/>
                </a:solidFill>
                <a:latin typeface="Titr"/>
                <a:ea typeface="Nazanin"/>
              </a:rPr>
              <a:t>Pull System Planning</a:t>
            </a:r>
            <a:r>
              <a:rPr b="0" lang="en-US" sz="1600" spc="-1" strike="noStrike">
                <a:solidFill>
                  <a:srgbClr val="ffffff"/>
                </a:solidFill>
                <a:latin typeface="Titr"/>
                <a:ea typeface="Nazanin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گویند.</a:t>
            </a:r>
            <a:br>
              <a:rPr sz="2400"/>
            </a:b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محدودیت زمان ، در بازار رقابتی امروز به‌ حدی است كه مدیریت‌ موثر زمان ، به‌عنوان ابزاری برای نجات سازمان‌ها مطرح ‌است . تفاوت بین پیشرو بودن </a:t>
            </a:r>
            <a:r>
              <a:rPr b="0" lang="en-US" sz="2400" spc="-1" strike="noStrike">
                <a:solidFill>
                  <a:srgbClr val="ffffff"/>
                </a:solidFill>
                <a:latin typeface="Titr"/>
                <a:ea typeface="Nazanin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وتقلیدكردن تنها در زمان اولین تحویل به بازار است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Titr"/>
                <a:cs typeface="Zar"/>
              </a:rPr>
              <a:t>عوامل موثر در زمان‌بندي پروژه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tr"/>
                <a:ea typeface="Nazanin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تقدم و تاخرانجام فعاليت‌ها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زمان شروع هر فعاليت بايد رابطه آن با پيش نيازها رعايت شود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منابع پروژه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ea typeface="Nazanin"/>
              </a:rPr>
              <a:t> در دسترس بودن منابع براي انجام فعاليت‌هاي همزمان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محدوديت‌هاي زماني، مكاني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ea typeface="Nazanin"/>
              </a:rPr>
              <a:t>  شرايط جغرافيايي، اقتصادي و ..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مدت زمان انجام فعاليت‌ها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مدت زمان انجام فعاليتهاي پيش‌نياز روي زمان شروع فعاليتها تأثير گذار است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ffff"/>
                </a:solidFill>
                <a:latin typeface="Titr"/>
                <a:cs typeface="Zar"/>
              </a:rPr>
              <a:t>مبناهاي مختلف در زمان‌بندي پروژه</a:t>
            </a:r>
            <a:r>
              <a:rPr b="1" lang="en-US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r>
              <a:rPr b="1" lang="fa-IR" sz="36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tr"/>
                <a:ea typeface="Nazanin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زمان‌بندي بر مبناي شروع پروژه </a:t>
            </a:r>
            <a:r>
              <a:rPr b="0" lang="en-US" sz="2400" spc="-1" strike="noStrike">
                <a:solidFill>
                  <a:srgbClr val="ffffff"/>
                </a:solidFill>
                <a:latin typeface="Titr"/>
                <a:ea typeface="Nazani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Nazanin"/>
              </a:rPr>
              <a:t>Start To Finish</a:t>
            </a:r>
            <a:r>
              <a:rPr b="0" lang="en-US" sz="2400" spc="-1" strike="noStrike">
                <a:solidFill>
                  <a:srgbClr val="ffffff"/>
                </a:solidFill>
                <a:latin typeface="Titr"/>
                <a:ea typeface="Nazanin"/>
              </a:rPr>
              <a:t>)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ea typeface="Nazani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فرض نمودن زمان شروع ---</a:t>
            </a:r>
            <a:r>
              <a:rPr b="0" lang="en-GB" sz="2400" spc="-1" strike="noStrike">
                <a:solidFill>
                  <a:srgbClr val="ffffff"/>
                </a:solidFill>
                <a:latin typeface="Titr"/>
                <a:ea typeface="Nazanin"/>
              </a:rPr>
              <a:t>&lt;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ea typeface="Nazanin"/>
              </a:rPr>
              <a:t> زمان پايان پروژه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محاسبه زمان پايان پروژه براساس زمان شروع معين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زمان‌بندي بر مبناي پايان پروژه </a:t>
            </a:r>
            <a:r>
              <a:rPr b="0" lang="en-US" sz="2400" spc="-1" strike="noStrike">
                <a:solidFill>
                  <a:srgbClr val="ffffff"/>
                </a:solidFill>
                <a:latin typeface="Titr"/>
                <a:ea typeface="Nazani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Nazanin"/>
              </a:rPr>
              <a:t>Finish To Start</a:t>
            </a:r>
            <a:r>
              <a:rPr b="0" lang="en-US" sz="2400" spc="-1" strike="noStrike">
                <a:solidFill>
                  <a:srgbClr val="ffffff"/>
                </a:solidFill>
                <a:latin typeface="Titr"/>
                <a:ea typeface="Nazanin"/>
              </a:rPr>
              <a:t>)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ea typeface="Nazani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فرض نمودن زمان پايان پروژه--</a:t>
            </a:r>
            <a:r>
              <a:rPr b="0" lang="en-GB" sz="2400" spc="-1" strike="noStrike">
                <a:solidFill>
                  <a:srgbClr val="ffffff"/>
                </a:solidFill>
                <a:latin typeface="Titr"/>
                <a:ea typeface="Nazanin"/>
              </a:rPr>
              <a:t>&lt;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ea typeface="Nazanin"/>
              </a:rPr>
              <a:t> زمان شروع پروژه 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محاسبه زمان شروع پروژه براي اتمام در زمان معين و فرض شده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ccffff"/>
                </a:solidFill>
                <a:latin typeface="Titr"/>
                <a:cs typeface="Zar"/>
              </a:rPr>
              <a:t>روش مسير بحراني </a:t>
            </a:r>
            <a:r>
              <a:rPr b="1" lang="en-US" sz="4000" spc="-1" strike="noStrike">
                <a:solidFill>
                  <a:srgbClr val="ccffff"/>
                </a:solidFill>
                <a:latin typeface="Titr"/>
                <a:ea typeface="Zar"/>
              </a:rPr>
              <a:t>(</a:t>
            </a:r>
            <a:r>
              <a:rPr b="1" lang="en-US" sz="4000" spc="-1" strike="noStrike">
                <a:solidFill>
                  <a:srgbClr val="ccffff"/>
                </a:solidFill>
                <a:latin typeface="Titr"/>
                <a:ea typeface="Zar"/>
              </a:rPr>
              <a:t>CPM</a:t>
            </a:r>
            <a:r>
              <a:rPr b="1" lang="en-US" sz="4000" spc="-1" strike="noStrike">
                <a:solidFill>
                  <a:srgbClr val="ccffff"/>
                </a:solidFill>
                <a:latin typeface="Titr"/>
                <a:ea typeface="Zar"/>
              </a:rPr>
              <a:t>) </a:t>
            </a:r>
            <a:r>
              <a:rPr b="1" lang="fa-IR" sz="40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tr"/>
                <a:ea typeface="Nazanin"/>
              </a:rPr>
              <a:t> </a:t>
            </a:r>
            <a:r>
              <a:rPr b="1" lang="fa-IR" sz="2400" spc="-1" strike="noStrike">
                <a:solidFill>
                  <a:srgbClr val="ff0000"/>
                </a:solidFill>
                <a:latin typeface="Titr"/>
                <a:cs typeface="Nazanin"/>
              </a:rPr>
              <a:t>مفهوم مسير بحراني پروژه</a:t>
            </a:r>
            <a:r>
              <a:rPr b="1" lang="en-US" sz="2400" spc="-1" strike="noStrike">
                <a:solidFill>
                  <a:srgbClr val="ff0000"/>
                </a:solidFill>
                <a:latin typeface="Titr"/>
                <a:ea typeface="Nazani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عبارتست از مجموعه‌اي از فعاليت‌هاي پروژه كه جمع مدت زمان انجام آنها، برابر با مدت زمان انجام كل پروژه باشد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Nazanin"/>
              </a:rPr>
              <a:t>حداكثر جريان در شبكه </a:t>
            </a:r>
            <a:r>
              <a:rPr b="0" lang="fa-IR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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ea typeface="Nazanin"/>
              </a:rPr>
              <a:t> مسير بحراني پروژه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Nazanin"/>
              </a:rPr>
              <a:t>t1+ t2 + t4+ t7 = max</a:t>
            </a:r>
            <a:endParaRPr b="0" lang="en-US" sz="2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66" name="Oval 5"/>
          <p:cNvSpPr/>
          <p:nvPr/>
        </p:nvSpPr>
        <p:spPr>
          <a:xfrm>
            <a:off x="714240" y="4786200"/>
            <a:ext cx="357480" cy="357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itr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357200" y="4429080"/>
            <a:ext cx="357480" cy="357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itr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68" name="Oval 7"/>
          <p:cNvSpPr/>
          <p:nvPr/>
        </p:nvSpPr>
        <p:spPr>
          <a:xfrm>
            <a:off x="1357200" y="5214960"/>
            <a:ext cx="357480" cy="357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itr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928880" y="4786200"/>
            <a:ext cx="357120" cy="357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itr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70" name="Oval 9"/>
          <p:cNvSpPr/>
          <p:nvPr/>
        </p:nvSpPr>
        <p:spPr>
          <a:xfrm>
            <a:off x="3357720" y="4786200"/>
            <a:ext cx="357120" cy="357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itr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571840" y="4429080"/>
            <a:ext cx="357120" cy="357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itr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2571840" y="5214960"/>
            <a:ext cx="357120" cy="357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itr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cxnSp>
        <p:nvCxnSpPr>
          <p:cNvPr id="73" name="Straight Arrow Connector 13"/>
          <p:cNvCxnSpPr>
            <a:stCxn id="66" idx="7"/>
            <a:endCxn id="67" idx="2"/>
          </p:cNvCxnSpPr>
          <p:nvPr/>
        </p:nvCxnSpPr>
        <p:spPr>
          <a:xfrm flipV="1">
            <a:off x="1018080" y="4606560"/>
            <a:ext cx="338760" cy="23256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Straight Arrow Connector 15"/>
          <p:cNvCxnSpPr>
            <a:stCxn id="66" idx="5"/>
            <a:endCxn id="68" idx="2"/>
          </p:cNvCxnSpPr>
          <p:nvPr/>
        </p:nvCxnSpPr>
        <p:spPr>
          <a:xfrm>
            <a:off x="1018080" y="5091120"/>
            <a:ext cx="338760" cy="30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5" name="Straight Arrow Connector 17"/>
          <p:cNvCxnSpPr>
            <a:stCxn id="67" idx="6"/>
            <a:endCxn id="71" idx="2"/>
          </p:cNvCxnSpPr>
          <p:nvPr/>
        </p:nvCxnSpPr>
        <p:spPr>
          <a:xfrm>
            <a:off x="1714320" y="4606920"/>
            <a:ext cx="8578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6" name="Straight Arrow Connector 19"/>
          <p:cNvCxnSpPr>
            <a:stCxn id="68" idx="6"/>
            <a:endCxn id="72" idx="2"/>
          </p:cNvCxnSpPr>
          <p:nvPr/>
        </p:nvCxnSpPr>
        <p:spPr>
          <a:xfrm>
            <a:off x="1714320" y="5393880"/>
            <a:ext cx="8578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" name="Straight Arrow Connector 21"/>
          <p:cNvCxnSpPr>
            <a:stCxn id="67" idx="5"/>
            <a:endCxn id="69" idx="2"/>
          </p:cNvCxnSpPr>
          <p:nvPr/>
        </p:nvCxnSpPr>
        <p:spPr>
          <a:xfrm>
            <a:off x="1661040" y="4733640"/>
            <a:ext cx="267120" cy="23076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" name="Straight Arrow Connector 23"/>
          <p:cNvCxnSpPr>
            <a:stCxn id="69" idx="6"/>
            <a:endCxn id="71" idx="3"/>
          </p:cNvCxnSpPr>
          <p:nvPr/>
        </p:nvCxnSpPr>
        <p:spPr>
          <a:xfrm flipV="1">
            <a:off x="2285640" y="4733280"/>
            <a:ext cx="3387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9" name="Straight Arrow Connector 25"/>
          <p:cNvCxnSpPr>
            <a:stCxn id="71" idx="6"/>
            <a:endCxn id="70" idx="1"/>
          </p:cNvCxnSpPr>
          <p:nvPr/>
        </p:nvCxnSpPr>
        <p:spPr>
          <a:xfrm>
            <a:off x="2928960" y="4606920"/>
            <a:ext cx="48168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27"/>
          <p:cNvCxnSpPr>
            <a:stCxn id="69" idx="6"/>
            <a:endCxn id="70" idx="2"/>
          </p:cNvCxnSpPr>
          <p:nvPr/>
        </p:nvCxnSpPr>
        <p:spPr>
          <a:xfrm>
            <a:off x="2285640" y="4963680"/>
            <a:ext cx="1072440" cy="25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1" name="Straight Arrow Connector 29"/>
          <p:cNvCxnSpPr>
            <a:stCxn id="72" idx="6"/>
            <a:endCxn id="70" idx="3"/>
          </p:cNvCxnSpPr>
          <p:nvPr/>
        </p:nvCxnSpPr>
        <p:spPr>
          <a:xfrm flipV="1">
            <a:off x="2928960" y="5090760"/>
            <a:ext cx="481680" cy="30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" name="TextBox 31"/>
          <p:cNvSpPr/>
          <p:nvPr/>
        </p:nvSpPr>
        <p:spPr>
          <a:xfrm>
            <a:off x="714240" y="4500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tr"/>
              </a:rPr>
              <a:t>t1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83" name="TextBox 32"/>
          <p:cNvSpPr/>
          <p:nvPr/>
        </p:nvSpPr>
        <p:spPr>
          <a:xfrm>
            <a:off x="1357200" y="49291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tr"/>
              </a:rPr>
              <a:t>t3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84" name="TextBox 33"/>
          <p:cNvSpPr/>
          <p:nvPr/>
        </p:nvSpPr>
        <p:spPr>
          <a:xfrm>
            <a:off x="1357200" y="41432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tr"/>
              </a:rPr>
              <a:t>t2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85" name="TextBox 34"/>
          <p:cNvSpPr/>
          <p:nvPr/>
        </p:nvSpPr>
        <p:spPr>
          <a:xfrm>
            <a:off x="2571840" y="49291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tr"/>
              </a:rPr>
              <a:t>t6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86" name="TextBox 35"/>
          <p:cNvSpPr/>
          <p:nvPr/>
        </p:nvSpPr>
        <p:spPr>
          <a:xfrm>
            <a:off x="1928880" y="45720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tr"/>
              </a:rPr>
              <a:t>t4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87" name="TextBox 36"/>
          <p:cNvSpPr/>
          <p:nvPr/>
        </p:nvSpPr>
        <p:spPr>
          <a:xfrm>
            <a:off x="2643120" y="41432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tr"/>
              </a:rPr>
              <a:t>t5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  <p:sp>
        <p:nvSpPr>
          <p:cNvPr id="88" name="TextBox 37"/>
          <p:cNvSpPr/>
          <p:nvPr/>
        </p:nvSpPr>
        <p:spPr>
          <a:xfrm>
            <a:off x="3357720" y="4500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tr"/>
              </a:rPr>
              <a:t>t7</a:t>
            </a:r>
            <a:endParaRPr b="0" lang="en-US" sz="18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ccffff"/>
                </a:solidFill>
                <a:latin typeface="Titr"/>
                <a:cs typeface="Zar"/>
              </a:rPr>
              <a:t>روش مسير بحراني </a:t>
            </a:r>
            <a:r>
              <a:rPr b="1" lang="en-US" sz="4000" spc="-1" strike="noStrike">
                <a:solidFill>
                  <a:srgbClr val="ccffff"/>
                </a:solidFill>
                <a:latin typeface="Titr"/>
                <a:ea typeface="Zar"/>
              </a:rPr>
              <a:t>(</a:t>
            </a:r>
            <a:r>
              <a:rPr b="1" lang="en-US" sz="4000" spc="-1" strike="noStrike">
                <a:solidFill>
                  <a:srgbClr val="ccffff"/>
                </a:solidFill>
                <a:latin typeface="Titr"/>
                <a:ea typeface="Zar"/>
              </a:rPr>
              <a:t>CPM</a:t>
            </a:r>
            <a:r>
              <a:rPr b="1" lang="en-US" sz="4000" spc="-1" strike="noStrike">
                <a:solidFill>
                  <a:srgbClr val="ccffff"/>
                </a:solidFill>
                <a:latin typeface="Titr"/>
                <a:ea typeface="Zar"/>
              </a:rPr>
              <a:t>) </a:t>
            </a:r>
            <a:r>
              <a:rPr b="1" lang="fa-IR" sz="4000" spc="-1" strike="noStrike">
                <a:solidFill>
                  <a:srgbClr val="ccffff"/>
                </a:solidFill>
                <a:latin typeface="Titr"/>
                <a:ea typeface="Zar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t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Tit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itr"/>
              </a:rPr>
              <a:t>مفهوم شناوري فعاليت‌هاي پروژه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عبارتست از مدت زمان ممكن براي تاخير در انجام هر فعاليت بنحوي كه مدت زمان كل پروژه تغيير ننمايد </a:t>
            </a:r>
            <a:r>
              <a:rPr b="0" lang="fa-IR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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ea typeface="Mitra"/>
              </a:rPr>
              <a:t> شناوري فعاليت‌هاي بحراني صفر است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مدت زماني كه مي‌توان شروع هر فعاليت را به تاخير انداخت بطوريكه مدت انجام پروژه تغيير نكند.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Tit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tr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itr"/>
                <a:cs typeface="Mitra"/>
              </a:rPr>
              <a:t>مقدار شناوري فعاليتها مي‌توانند داراي زمانهاي متفاوتي باشند:</a:t>
            </a:r>
            <a:endParaRPr b="0" lang="en-US" sz="2400" spc="-1" strike="noStrike">
              <a:solidFill>
                <a:srgbClr val="ffffff"/>
              </a:solidFill>
              <a:latin typeface="Titr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ffffff"/>
              </a:buClr>
              <a:buFont typeface="Tit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itr"/>
                <a:cs typeface="Mitra"/>
              </a:rPr>
              <a:t>بسته به اينكه چه پيش‌ نياز و پس نيازي دارد و بسته به جايگاه فعاليت.</a:t>
            </a:r>
            <a:endParaRPr b="0" lang="en-US" sz="2000" spc="-1" strike="noStrike">
              <a:solidFill>
                <a:srgbClr val="ffffff"/>
              </a:solidFill>
              <a:latin typeface="Titr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0:21:56Z</dcterms:created>
  <dc:creator>alireza</dc:creator>
  <dc:description/>
  <dc:language>en-US</dc:language>
  <cp:lastModifiedBy>hossein</cp:lastModifiedBy>
  <dcterms:modified xsi:type="dcterms:W3CDTF">2014-03-29T10:22:51Z</dcterms:modified>
  <cp:revision>179</cp:revision>
  <dc:subject/>
  <dc:title>برنامه‌ريزي استراتژيک فناوري اطلاعات</dc:title>
</cp:coreProperties>
</file>