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Nazani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Nazanin"/>
              </a:rPr>
              <a:t>Click to move the slide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0DCE-8C09-497E-BE23-9BF3ECAE2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3C2C-0481-47F1-A1DC-3752939658E0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5541-B947-4215-91C0-2F89E0F18029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8AB7-2D12-4AFF-ADBA-111CC49167C9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B902-131C-4167-98D5-0326C43ED611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026C-654A-4D05-9750-63BEF4F701D8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5DC7-E2A8-4B10-92B7-FA228B3B676A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0479-EEC2-4C0B-89B0-48A5AF92B42E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8E9B-0A8E-44E0-BFFD-1EF200D0F83B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2360-2D92-410C-9358-067CBB6FA052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A20B-0845-46C5-9EBE-61902D3909EE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3B4D-CEE3-48E1-91B8-B6D745E7EF4D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805C-F603-4C17-9F80-4CCD3A46B746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8684-ABA8-40BA-8DC9-9F4719FC9E7E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0589-88A3-4049-9BD3-024892FC2895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79A6-43A6-4EDF-8117-30787FEBDED5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DBBC-74B1-4DD1-B81B-6DA0C7B923F4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18E1-ACD8-4D23-A58E-CC05222D3607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A3A7-EEFC-44FA-A415-5AE88FCBD5D8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C675-5420-4227-AEC5-C7CAFEBD94CB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C3F9-397B-4857-8732-C344CC3DE096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30A6-E128-407E-B630-D6B35B68604D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0D83-A4D0-439A-9450-26BCA3B264C8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50C1-CA9C-4407-A605-D276AC9E0397}" type="slidenum">
              <a:rPr b="0" lang="en-US" sz="1200" spc="-1" strike="noStrike">
                <a:solidFill>
                  <a:srgbClr val="ffffff"/>
                </a:solidFill>
                <a:latin typeface="Nazani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Nazani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9420-EFB5-4275-B3EB-78CFC6882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1A1-2D1D-426D-8E24-C523FF96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EC1-3401-4F68-9F75-5820726A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28B0-3D71-4EB4-8B64-16ADC343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6FDB-0266-4D16-BB4C-4DDC096C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F763-48E4-4C62-BCE7-0928D8A7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B25A-1BA4-45E9-B120-7D457544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98BD-56BA-46D0-9A83-DA3E337C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5992-9144-4671-86D4-30455188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5754-238E-43C2-A49B-F2445FD7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ED418-9DD3-4813-82AE-C18C8F66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4BF4-89D6-439D-AE5A-33352CDA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3051-2B8E-47A8-8BBB-0CA4D7F7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A131-B17B-448F-B3AD-5D62073A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F6D6-F4E3-41F6-9A27-46E19616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B25BC-9E3D-4D73-8CAA-3667C61D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6E2D-C886-4E63-B14A-C0F07F4D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8B2-1F1F-4B31-8451-2C08B9B0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C40-EBEE-4810-A643-E8922C2E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88A-9150-4FEF-9E2E-AD24807D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981-AF4D-4F96-8ED5-B4FA5411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EE5C-A4F3-40D8-A19D-1EE62EF1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D14-D0F8-4807-8E45-1044C700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B1F0-75FE-4F03-9114-82D9B30B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Nazani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Nazani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Nazani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Nazanin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Nazani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Nazani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DEF8-CBA6-45E5-AD43-6DB2D52068E1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Nazani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Nazanin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ffffff"/>
                </a:solidFill>
                <a:latin typeface="Nazani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Nazanin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Nazani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Nazani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F235-3B07-401B-9B26-C736EDEACD18}" type="slidenum">
              <a:rPr b="0" lang="ar-S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24000" y="907560"/>
            <a:ext cx="48560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cc"/>
                </a:solidFill>
                <a:latin typeface="Nazanin"/>
              </a:rPr>
              <a:t>تحليل شي گرا (</a:t>
            </a:r>
            <a:r>
              <a:rPr b="1" lang="en-US" sz="4000" spc="-1" strike="noStrike">
                <a:solidFill>
                  <a:srgbClr val="ffffcc"/>
                </a:solidFill>
                <a:latin typeface="Nazanin"/>
              </a:rPr>
              <a:t>OOA</a:t>
            </a:r>
            <a:r>
              <a:rPr b="1" lang="fa-IR" sz="4000" spc="-1" strike="noStrike">
                <a:solidFill>
                  <a:srgbClr val="ffffcc"/>
                </a:solidFill>
                <a:latin typeface="Nazani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فرآيند تحليل شي گرا(</a:t>
            </a: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OOA</a:t>
            </a: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فرآيند 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OA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با توجه به اشيا شروع نمي شود، بلكه با شناخت حالتي آغاز مي گردد كه در آن سيستم مورد استفاده قرار مي گيرد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فنون جمع آوري نيازمندي ها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827360"/>
            <a:ext cx="814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موارد كاربرد(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Use-Case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ها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اهداف 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ffff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تعريف نيازمندي هاي عملياتي و كاركردي سيستم (محصول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26"/>
              </a:spcBef>
              <a:buClr>
                <a:srgbClr val="ffff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توصيف مشخص و غير مبهمي از چگونگي ارتباط متقابل سيستم و كاربر نهاي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624"/>
              </a:spcBef>
              <a:buClr>
                <a:srgbClr val="ffff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پايه و اساسي براي اعتبار آزمون اعتبارسنجي</a:t>
            </a:r>
            <a:r>
              <a:rPr b="0" lang="fa-IR" sz="25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مدل سازي كلاس-مسئوليت-مشاركت</a:t>
            </a:r>
            <a:r>
              <a:rPr b="0" lang="en-US" sz="3600" spc="-1" strike="noStrike">
                <a:solidFill>
                  <a:srgbClr val="ffffcc"/>
                </a:solidFill>
                <a:latin typeface="Nazanin"/>
              </a:rPr>
              <a:t>(</a:t>
            </a:r>
            <a:r>
              <a:rPr b="0" lang="en-US" sz="2900" spc="-1" strike="noStrike">
                <a:solidFill>
                  <a:srgbClr val="ffffcc"/>
                </a:solidFill>
                <a:latin typeface="Verdana"/>
              </a:rPr>
              <a:t>CRC</a:t>
            </a:r>
            <a:r>
              <a:rPr b="0" lang="en-US" sz="3600" spc="-1" strike="noStrike">
                <a:solidFill>
                  <a:srgbClr val="ffffcc"/>
                </a:solidFill>
                <a:latin typeface="Nazanin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مدلسازي 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RC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وسيله ساده اي براي شناسايي و سازماندهي كلاس هايي است كه با نيازهاي سيستم يا محصول مرتبطند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كلاس ها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يك تكنيك شناسايي اشيا در بستر يك مسئله نرم افزاري عبارتست از انجام تجزيه دستوري روي روايت پردازشي سيستم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تمام اسم ها اشيا بالقوه هستند.شش مشخصه انتخاب اين اشيا بالقوه عبارتند از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– اطلاعات بازيابي شده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– خدمات مورد نيا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– صفات خاصه چند گانه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– مشخصه هاي معمول و مشتر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– عمليات مشترك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6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– نيازمندي هاي ضرور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يك شي بالقوه بايد تمامي شش مشخصه را دارا باشد اگر كه قرار است براي گنجاندن در مدل 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RC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در نظر گرفته شود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طبقه بندي انواع كلاس ها از نظر فاير اسميت: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7313760" cy="47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كلاس بندي وسيله ها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كلاس بندي خصوصيات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كلاس بندي روابط متقابل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624"/>
              </a:spcBef>
              <a:buClr>
                <a:srgbClr val="ffffcc"/>
              </a:buClr>
              <a:buSzPct val="1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مشخصات كلاس ها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624"/>
              </a:spcBef>
              <a:buClr>
                <a:srgbClr val="ffffcc"/>
              </a:buClr>
              <a:buSzPct val="1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قابليت لمس كردن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624"/>
              </a:spcBef>
              <a:buClr>
                <a:srgbClr val="ffffcc"/>
              </a:buClr>
              <a:buSzPct val="1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شموليت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624"/>
              </a:spcBef>
              <a:buClr>
                <a:srgbClr val="ffffcc"/>
              </a:buClr>
              <a:buSzPct val="1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تسلسل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624"/>
              </a:spcBef>
              <a:buClr>
                <a:srgbClr val="ffffcc"/>
              </a:buClr>
              <a:buSzPct val="1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پايداري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624"/>
              </a:spcBef>
              <a:buClr>
                <a:srgbClr val="ffffcc"/>
              </a:buClr>
              <a:buSzPct val="1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جامعيت و يكپارچگي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مسئوليت ها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پنج راهنمايي براي تخصيص مسئوليت ها به كلاس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 - هوش سيستم بايد به طور يكنواخت توزيع شود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r" rtl="1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  از آنجا كه هر شي  در مورد كارهاي محدودي اطلاعات داشته و كارهاي محدودي را نيز انجام مي دهد با انجام توزيع يكنواخت، انسجام سيستم بهبود مي يابد 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– هر مسئوليتي بايد تا جايي كه ممكن است به طور كلي بيان شو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– اطلاعات و رفتار مربوطه بايد در همان كلاس قرار بگير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- اطلاعات مربوط به هر چيز بايد در يك كلاس قرار بگيرد نه آنكه در كلاس هاي چندگانه توزيع شو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– مسئوليت ها بايد به طور مناسب ميان كلاس هاي مربوطه تقسيم شوند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125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مشاركت (همكاري)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3280" y="1699920"/>
            <a:ext cx="73137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كلاس ميتواند عمليات خود براي تغير مشخصه هايش استفاده كن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20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كلاس مي تواند با ساير كلاس ها همكاري كند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   اين همكاري روابط بين كلاس ها را شناسايي مي كن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   وقتي كلاسي نمي تواند مسئوليتي را به خودي خود انجام دهد پس لازم است با كلاس ديگر ارتباط داشته باشد و اين يك همكاري است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تعريف ساختارها و سلسله مراتب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وقتي كلاس ها و اشيا با استفاده از مدل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C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شناسايي شدند ، تحليلگر شروع به تمركز روي ساختار مدل كلاس و سلسله مراتب منتج از آن مي كند كه با ظهور كلاس ها و زيركلاس ها به وجود مي آين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با استفاده از روش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ML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يك سري نمودارهاي كلاس را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   مي توان ايجاد كرد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r" rtl="1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ساختار كلاس هاي تعميم يافته-تخصيصي را مي توان براي شناسايي كلاس ها به وجود آورد.</a:t>
            </a:r>
            <a:r>
              <a:rPr b="0" lang="fa-IR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ffcc"/>
                </a:solidFill>
                <a:latin typeface="Verdana"/>
              </a:rPr>
              <a:t>تحليل شي</a:t>
            </a:r>
            <a:r>
              <a:rPr b="1" lang="fa-IR" sz="4800" spc="-1" strike="noStrike">
                <a:solidFill>
                  <a:srgbClr val="ffffcc"/>
                </a:solidFill>
                <a:latin typeface="Nazanin"/>
              </a:rPr>
              <a:t> </a:t>
            </a:r>
            <a:r>
              <a:rPr b="1" lang="fa-IR" sz="4800" spc="-1" strike="noStrike">
                <a:solidFill>
                  <a:srgbClr val="ffffcc"/>
                </a:solidFill>
                <a:latin typeface="Verdana"/>
              </a:rPr>
              <a:t>گرا</a:t>
            </a:r>
            <a:endParaRPr b="0" lang="en-US" sz="48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58920" y="1773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هدف از تحليل شي گرا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ارائه مدلي است كه نرم افزاري را توصيف مي كند كه اجزاي آن نيازمندي هاي معين شده از جانب مشتري را مرتفع مي سازد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تعريف موضوعات و زير سيستمها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ممكن است مدل تحليلي در مورد يك برنامه پيچيده داراي صدها و ده ها ساختار باشد،به همين دليل لازم است شكل دقيقي را مشخص كرد كه چكيده و عصاره مدل هاي ساختاري و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C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باشن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مدل رابطه - شي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اولين مرحله در ايجاد روابط عبارتست از درك مسئوليت هاي هر كلا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مرحله بعد تعريف كلاس هاي همكاراني است كه در دستيابي به هر مسئوليت به ما كمك مي كنند. اين كار ارتباط بين كلاس ها را به وجود مي آور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بين دو كلاس كه به هم مرتبطند يك رابطه وجود دارد، رايج ترين نوع ارتباط دودويي استيعني رابط بين دو</a:t>
            </a:r>
            <a:r>
              <a:rPr b="0" lang="fa-I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كلاس وجود دار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مدل رفتار - شي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مدل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C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و مدل رابطه - شي نمايانگر عناصر ايستاي مدل تحليل شي گرا هستند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مدل رفتار - شي نشانگر اين است كه چگونه يك سيستم شي گرا به حوادث يا محرك هاي بيروني واكنش نشان مي ده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مدل رفتار - شي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ffffff"/>
                </a:solidFill>
                <a:latin typeface="Verdana"/>
              </a:rPr>
              <a:t>براي ايجاد مدل تحليلگر بايد مراحل زير را انجام دهد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- تمام موارد كاربرد را ارزيابي كند تا به طور كامل توالي روابط ميان آنها را در سيستم بشناس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- حوادثي را شناسايي كند كه باعث توالي عمل شده و چگونگي ارتباط آنها را با اشياي خاص درك كن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- مسير حادثه اي را براي هر مورد كاربر ايجاد كن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- يك نمودار تغيير وضعيت براي سيستم ترسيم كن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fa-IR" sz="2800" spc="-1" strike="noStrike">
                <a:solidFill>
                  <a:srgbClr val="ffffff"/>
                </a:solidFill>
                <a:latin typeface="Verdana"/>
              </a:rPr>
              <a:t>- مدل رفتار شي را به منظور تعيين دقيق و انسجام بازبيني كند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ffcc"/>
                </a:solidFill>
                <a:latin typeface="Nazanin"/>
              </a:rPr>
              <a:t>چشم انداز تحليل شي گرا</a:t>
            </a:r>
            <a:endParaRPr b="0" lang="en-US" sz="40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محبوبيت فناوري شي گرا باعث توليد انواع شيوه هاي تحليل شي گرا گرديد كه مهم ترين آنها عبارتند از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 algn="r" rtl="1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شيوه بوچ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 algn="r" rtl="1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شيوه رامباف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 algn="r" rtl="1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شيوه ياكوبسن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 algn="r" rtl="1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شيوه كاد و يوردان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 algn="r" rtl="1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روش ورفز-برا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cc"/>
                </a:solidFill>
                <a:latin typeface="Nazanin"/>
              </a:rPr>
              <a:t>رهيافتي يكنواخت براي تحليل شي گرا</a:t>
            </a:r>
            <a:endParaRPr b="0" lang="en-US" sz="40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   در طول دهه گذشته بوچ ، رامباف و ياكوبسن با همكاري يكديگر بهترين مشخصه هاي روش هاي طراحي و تحليل شي گرا را در يك روش متحدالشكل تركب كرده اند كه زبان مدل سازي متحد يا 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UML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ناميده مي شود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  در 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UML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سيستمي كه ارائه مي شود از پنج ديدگاه مختلف استفاده مي كند ، هر ديدگاه توسط مجموعه اي از نمودارها ارائه و تعريف مي شود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ديدگاه هاي زير در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  <a:ea typeface="Arial"/>
              </a:rPr>
              <a:t>UML</a:t>
            </a: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 ارائه شده اند :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ديدگاه مدل كاربر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ديدگاه مدل ساختار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ديدگاه مدل رفتار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ديدگاه مدل پياده ساز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ديدگاه مدل محيط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 algn="r" rtl="1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به طور كلي ، مدل سازي تحليل 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UML</a:t>
            </a: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بر ديدگاه هاي مدل ساختاري و كاربر در سيستم متمركز مي شود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تحليل حوزه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تحليل سيستم هاي شي گرا مي تواند در سطوح مختلف انتزاعي رخ دهد.هدف اصلي تحليل حوزه اي تعريف مجموعه اي از رده ها و اشيايي است كه در حوزه كاربردي وجود دارند 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 algn="r" rtl="1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استفاده مجدد و تحليل حوزه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    فناوري هاي مربوط به شي ء  از طريق استفاده مجدد داراي تاثير و قدرت مي شوند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403280" y="1699920"/>
            <a:ext cx="73137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 rtl="1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فرآيند تحليل حوزه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r" rtl="1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   تحليل دامنه يك كار مهندسي نرم افزاري مستمر است كه به هيچ پروژه نرم افزاري متصل و مرتبط نيست 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r" rtl="1"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ffffff"/>
                </a:solidFill>
                <a:latin typeface="Verdana"/>
              </a:rPr>
              <a:t>    نقش تحليلگر دامنه عبارتست از طراحي و ساخت اجزاي قابل استفاده مجدد كه ممكن است توسط خيلي از افرادي كه روي موضوعات مشابه اما نه الزاما يكسان كار مي كنند ، به كار گرفته شود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اجزاي عمومي مدل تحليل شي گرا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  اجزاي ايستا به طور طبيعي ساختيافته هستند ونشانگر مشخصه هايي هستند كه در سراسر طول عمر برنامه حفظ مي شوند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 rtl="1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    اجزاي پويا روي كنترل متمركز شده و نسبت به زمان بندي و پردازش رويدادها حساسند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ffcc"/>
                </a:solidFill>
                <a:latin typeface="Nazanin"/>
              </a:rPr>
              <a:t>اجزاي شناسايي شده :</a:t>
            </a:r>
            <a:endParaRPr b="0" lang="en-US" sz="3600" spc="-1" strike="noStrike">
              <a:solidFill>
                <a:srgbClr val="ffffcc"/>
              </a:solidFill>
              <a:latin typeface="Nazani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26"/>
              </a:spcBef>
              <a:buClr>
                <a:srgbClr val="ffff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ديدگاه ايستا در مورد كلاس هاي معنايي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ffff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ديدگاه ايستا در مورد صفات خاصه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ffff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ديدگاه ايتا در مورد روابط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ffff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ديدگاه ايستا در مورد رفتارها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ffff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ديدگاه پويا در مورد ارتباطات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r" rtl="1">
              <a:spcBef>
                <a:spcPts val="726"/>
              </a:spcBef>
              <a:buClr>
                <a:srgbClr val="ffffcc"/>
              </a:buClr>
              <a:buSzPct val="15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900" spc="-1" strike="noStrike">
                <a:solidFill>
                  <a:srgbClr val="ffffff"/>
                </a:solidFill>
                <a:latin typeface="Verdana"/>
              </a:rPr>
              <a:t>ديدگاه پويا در مورد كنترل و زمان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2:25:09Z</dcterms:created>
  <dc:creator>Dear User</dc:creator>
  <dc:description/>
  <dc:language>en-US</dc:language>
  <cp:lastModifiedBy>MRT</cp:lastModifiedBy>
  <dcterms:modified xsi:type="dcterms:W3CDTF">2010-03-12T17:13:12Z</dcterms:modified>
  <cp:revision>8</cp:revision>
  <dc:subject/>
  <dc:title>تحليل شي گرا (OOA)</dc:title>
</cp:coreProperties>
</file>