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61C-7247-4218-A0AE-4B3928CE9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C98B-4EEF-4A6B-95BF-5E674B37D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DEA-E57E-4942-87AB-105951235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A464-461A-4BEA-912A-EFE19C654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8C6B-283B-4CFE-B419-CD40DC9A1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0ED0-9DA8-4766-B12F-2058C2453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5B35-FEDD-47DF-89BD-6E2555F36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B09B-3367-4162-AC83-E873C9B79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6798-6E5A-4BF3-ABD2-4F8BD1A4B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A2FF-5E2A-4513-9436-950D7551D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ACE9-7E48-4D83-BE52-2A1A81824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EDB1-3C08-42C9-A114-25374C7A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B3DD-BE66-40B7-BB40-F0652E941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A4F-D8F1-4B5D-8759-5FD8E97A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C342-5681-4587-B493-5331D087C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1DD6-91C6-46ED-93DD-CB37E5F90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6CAC-8BAE-44B0-AFD7-5ED0BD330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EF3F-4FAC-4335-855E-1B953757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FD34-A992-410A-9240-79CE19D1B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931-39C0-4FFB-84CA-61777F0CF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7CB-73F3-4D73-B921-335E9B18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966-FEFA-43E8-990A-EAAAE94A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773A-ACC2-4586-938E-54C8331A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07FB-E697-4823-B2D4-9A9820DA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39F4-8EB3-4D2B-9A29-B6145E40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A1B3-3813-41C7-A7A2-5AA96432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7EFA-54E4-4285-8E26-6ED004EC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ABB8-E144-48A5-B08E-5C48A43B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592A-02CD-43E5-8BB7-2AEC42E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1DCD-EEE2-41CA-BDB3-22D0669A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3F2-F845-43FE-90E6-AB2B48D1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ACA40-0EAD-48DA-B92C-9904E0BC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DC6C-3247-4911-A38B-D0FE0A55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8F62-E385-4A19-97A0-7A4AD67F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7335-D866-45E0-B4E1-082CAD01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BFBB-6173-4E36-AC72-60ECE00D2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0983-3617-410B-9DAC-283E0486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BFC88-C33B-4CC4-B9AC-40F922B0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C520E-C4B6-4783-9E45-7DF3A5E4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18592-F600-4090-AF0F-1EDEB81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DA4B9-1817-46F3-80BF-36B86372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52BF-8D03-4175-85BE-6305B9E9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9320A-B3E5-478B-8B17-45875FDB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48BB-9044-4407-AC34-BC31800C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BF6B-6E94-4AF6-8A91-27238E4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F6CA-7FB9-4306-9F88-4F93EAB2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83948-6B99-46C7-A47F-B6FFD570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AC52-CEF6-4EAC-A54A-785646CF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8BEFF-D594-4725-9800-1381D41A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E62D-B42F-4945-8D58-C6B1256C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2002E-0017-4F54-B919-ADDAEAB55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4AA0F-1F70-4665-99E2-F0A0F268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728-958B-4E67-A1EE-1C2128D0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709F-E731-4956-89FF-D69EFB59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8E28-AF93-4496-B11E-09BF8363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C783-C165-40D5-97E5-BE26D235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26C7A-0CE1-47C0-B0FF-432ABED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1C91-3A5E-472A-B8F6-D687146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9FAC2-CF85-4812-BC2E-C4CFB836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01492-B291-4A30-BC43-3FF297D0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76F96-13F5-4099-AE53-2DEC8F4A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1346-4A4F-46C3-9555-9E042E3E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0C85E-A8BD-4D41-9039-D3B1901E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F0BE-9244-4BCA-B398-F9651C77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559F8-B8F8-4A09-841D-C8E4C9EA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6B3E-8111-4D24-A391-5FDFC744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FB950-DC33-49E9-9876-B702AD72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AF2B7-9B49-4A93-B758-19CCEE73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4AE8B-E623-4E2D-AB4F-DE8E1D82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27729-A5AD-449E-84BC-94D937F9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E5E4-36B9-4B6E-B5FD-47654A73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8BF2B-1196-4D09-BC6B-2ACF1C80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3B937-42F9-454A-9102-8DA6ECA3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0C45-7DA9-4895-8A09-CADE31B9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701-83F0-4948-AE1A-E21AD6CC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CCF15-93C8-4C4F-9637-A0490656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13566-33A8-4934-8555-58D53095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A99CF-AA03-4A7A-A061-49251A05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7BD56-A141-494B-BC7C-169218D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11454-4E8F-4200-BA70-3FA29C5E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37252-8260-4AD3-8E45-126BA220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C75F3-4A12-4737-B3D0-52236832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F857C-C3CE-4F89-B44F-C36A583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D393B-83EA-4D16-8B64-ADA64E39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54604-0FD9-49C6-B970-D50A206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312-DDB2-4E3D-A4D0-AC608613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1BD3B-DD2D-45AF-8FE2-3AA105E9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D5390-4291-4F94-9BD4-85D510AE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485FD-0198-4B53-87C7-306AAF3C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E6CF6-B493-4592-ADFD-2A9C1C38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993B6-A5C4-43AF-A9A8-09566A3A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A31C2-B949-42EF-9FD8-2F71F81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8CC10-D1FC-4D3F-9B57-86730D61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9A02F-1105-40E5-9BEC-CA6111B2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DCB66-83E6-4154-AF74-555F1F5C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C3B2D-8683-42BF-93ED-5967CF40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E2E8-319F-4CE5-B88F-10B120CF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C471F-76B0-4143-8B63-F1E9A677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2F686-5C57-4ECE-BC51-EA524EAC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D5167-5CC8-4134-A68F-D17A7883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3481A-65C7-4924-A912-2CFAD377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F4C54-A8FC-44EF-9ECD-6EB60741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E1B-0F0D-4D4A-B553-C96F4DAF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2006-5835-4377-9690-692576783F76}" type="slidenum"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3E5A-58BB-4858-981E-44847AB208AA}" type="slidenum"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C629-6942-46C1-B1C4-75AB2A8C5149}" type="slidenum"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D500-31F2-4660-BCD2-C76232420D63}" type="slidenum"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B96A-26F3-472B-BDD1-2C5BC8A743ED}" type="slidenum"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46F6-5183-429A-BB61-1616F7635FCD}" type="slidenum"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r" rtl="1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r" rtl="1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 algn="r" rtl="1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 algn="r" rtl="1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 algn="r" rtl="1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 algn="r" rtl="1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08D2-E0B4-408B-860B-0E29D91C8ED3}" type="slidenum">
              <a:rPr b="0" lang="fa-IR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192320" y="2373480"/>
            <a:ext cx="7494480" cy="3071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feb80a"/>
                </a:solidFill>
                <a:latin typeface="Gill Sans MT"/>
              </a:rPr>
              <a:t>طراحی رابط کابر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00ff"/>
                </a:solidFill>
                <a:latin typeface="Gill Sans MT"/>
              </a:rPr>
              <a:t>فصل</a:t>
            </a:r>
            <a:r>
              <a:rPr b="1" lang="fa-IR" sz="7200" spc="-1" strike="noStrike">
                <a:solidFill>
                  <a:srgbClr val="feb80a"/>
                </a:solidFill>
                <a:latin typeface="Gill Sans MT"/>
              </a:rPr>
              <a:t> </a:t>
            </a:r>
            <a:r>
              <a:rPr b="1" lang="fa-IR" sz="7200" spc="-1" strike="noStrike">
                <a:solidFill>
                  <a:srgbClr val="0000ff"/>
                </a:solidFill>
                <a:latin typeface="Gill Sans MT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Subtitle 2"/>
          <p:cNvSpPr/>
          <p:nvPr/>
        </p:nvSpPr>
        <p:spPr>
          <a:xfrm>
            <a:off x="1407960" y="404640"/>
            <a:ext cx="749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7200" spc="-1" strike="noStrike">
                <a:solidFill>
                  <a:srgbClr val="0000ff"/>
                </a:solidFill>
                <a:latin typeface="Gill Sans MT"/>
                <a:cs typeface="Majalla UI"/>
              </a:rPr>
              <a:t>به نام خد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957320" y="200448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تحلیل و الگو سازی کاربر ،وظیفه و محیط و مدل ساز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طراحی رابط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ساخت رابط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اعتبار سنجی رابط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928800" y="7286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1c4853"/>
                </a:solidFill>
                <a:latin typeface="Tahoma"/>
                <a:cs typeface="Tahoma"/>
              </a:rPr>
              <a:t>طراحی رابط های کاربر ،فرایندی تکراری است که در مدل حلزونی زیر  ارائه شده اس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1c4853"/>
                </a:solidFill>
                <a:latin typeface="Tahoma"/>
                <a:cs typeface="Tahoma"/>
              </a:rPr>
              <a:t>این روند ،</a:t>
            </a:r>
            <a:r>
              <a:rPr b="1" lang="fa-IR" sz="1800" spc="-1" strike="noStrike">
                <a:solidFill>
                  <a:srgbClr val="1c4853"/>
                </a:solidFill>
                <a:latin typeface="Tahoma"/>
                <a:ea typeface="Tahoma"/>
              </a:rPr>
              <a:t>4</a:t>
            </a:r>
            <a:r>
              <a:rPr b="1" lang="fa-IR" sz="1800" spc="-1" strike="noStrike">
                <a:solidFill>
                  <a:srgbClr val="1c4853"/>
                </a:solidFill>
                <a:latin typeface="Tahoma"/>
                <a:cs typeface="Tahoma"/>
              </a:rPr>
              <a:t>فعالیت مجزای ساختاری را در بر دار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rcRect l="5156" t="23504" r="29735" b="22785"/>
          <a:stretch/>
        </p:blipFill>
        <p:spPr>
          <a:xfrm>
            <a:off x="1093680" y="2549520"/>
            <a:ext cx="4621320" cy="39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714680" y="2142720"/>
            <a:ext cx="6400800" cy="3000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وظایف انسانی به عنوان قسمتی از تحلیل وظایف ،تعریف و طبقه بندی می شوند.یک فرآیند ماهرانه برای رده بندی وظایف به کار می رود.به جای آن اشیا ء و اقدامات ،تعریف و طبقه بندی می شون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2714760" y="966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c4853"/>
                </a:solidFill>
                <a:latin typeface="Tahoma"/>
                <a:cs typeface="Tahoma"/>
              </a:rPr>
              <a:t>تحلیل وظایف و مدل ساز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642680" y="1571400"/>
            <a:ext cx="6715080" cy="450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14440" indent="-514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اولین مراحل طراحی رابط با استفاده از روش زیر قابل انجام است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تعیین اهداف و مقاصد برای کاربر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تبدیل هر هدف یا منظوربه ترتیبی از اعمال خاص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تعیین ترتیب وظایف و اعمال فرعی (یعنی سناریوی کاربر)، که در سطح رابط اجرا خواهد شد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بیان وضعیت سیستم (یعنی در زمان اجرای سناریو ی کاربر ،رابط چگونه به نظر می رسد؟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تعیین مکانیزم های کنترل (یعنی اشیاء  و اعمال دردسترس کاربر برای تعیین وضعیت سیستم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نشان دادن تاثیر مکانیزم های کنترل بر وضعیت سیستم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بیان این که کاربر چگونه از اطلاعات رابط ،کنترل وضعیت را تفسیر می کند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2214720" y="785880"/>
            <a:ext cx="56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c4853"/>
                </a:solidFill>
                <a:latin typeface="Tahoma"/>
                <a:cs typeface="Tahoma"/>
              </a:rPr>
              <a:t>فعالیت های طراحی راب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143160" y="2142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3891a7"/>
                </a:solidFill>
                <a:latin typeface="Tahoma"/>
                <a:cs typeface="Tahoma"/>
              </a:rPr>
              <a:t>پس از تحلیل وظائف  </a:t>
            </a:r>
            <a:r>
              <a:rPr b="0" lang="fa-IR" sz="1800" spc="-1" strike="noStrike">
                <a:solidFill>
                  <a:srgbClr val="3891a7"/>
                </a:solidFill>
                <a:latin typeface="Wingdings"/>
                <a:ea typeface="Wingdings"/>
              </a:rPr>
              <a:t></a:t>
            </a:r>
            <a:r>
              <a:rPr b="0" lang="fa-IR" sz="1800" spc="-1" strike="noStrike">
                <a:solidFill>
                  <a:srgbClr val="3891a7"/>
                </a:solidFill>
                <a:latin typeface="Tahoma"/>
                <a:ea typeface="Tahoma"/>
              </a:rPr>
              <a:t> طراحی راب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357960" y="1000080"/>
            <a:ext cx="221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c4853"/>
                </a:solidFill>
                <a:latin typeface="Century Schoolbook"/>
                <a:cs typeface="Times New Roman"/>
              </a:rPr>
              <a:t>سیستم خانه ام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rcRect l="7840" t="30157" r="22522" b="5955"/>
          <a:stretch/>
        </p:blipFill>
        <p:spPr>
          <a:xfrm>
            <a:off x="2143080" y="1714680"/>
            <a:ext cx="592920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928880" y="3071520"/>
            <a:ext cx="6400800" cy="2423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835e01"/>
                </a:solidFill>
                <a:latin typeface="Gill Sans MT"/>
              </a:rPr>
              <a:t>توصیه:هنگامی که راهنما را می سازید ،</a:t>
            </a:r>
            <a:r>
              <a:rPr b="0" lang="fa-IR" sz="3200" spc="-1" strike="noStrike">
                <a:solidFill>
                  <a:srgbClr val="835e01"/>
                </a:solidFill>
                <a:latin typeface="Gill Sans MT"/>
              </a:rPr>
              <a:t>2</a:t>
            </a:r>
            <a:r>
              <a:rPr b="0" lang="fa-IR" sz="3200" spc="-1" strike="noStrike">
                <a:solidFill>
                  <a:srgbClr val="835e01"/>
                </a:solidFill>
                <a:latin typeface="Gill Sans MT"/>
              </a:rPr>
              <a:t>برابر نیرویی که گمان می کنید مورد نیاز است و </a:t>
            </a:r>
            <a:r>
              <a:rPr b="0" lang="fa-IR" sz="3200" spc="-1" strike="noStrike">
                <a:solidFill>
                  <a:srgbClr val="835e01"/>
                </a:solidFill>
                <a:latin typeface="Gill Sans MT"/>
              </a:rPr>
              <a:t>2</a:t>
            </a:r>
            <a:r>
              <a:rPr b="0" lang="fa-IR" sz="3200" spc="-1" strike="noStrike">
                <a:solidFill>
                  <a:srgbClr val="835e01"/>
                </a:solidFill>
                <a:latin typeface="Gill Sans MT"/>
              </a:rPr>
              <a:t> برابر کلماتی که گمان می کنید برای رفع خطا کافی </a:t>
            </a:r>
            <a:r>
              <a:rPr b="0" lang="fa-IR" sz="3200" spc="-1" strike="noStrike" u="sng">
                <a:solidFill>
                  <a:srgbClr val="835e01"/>
                </a:solidFill>
                <a:uFillTx/>
                <a:latin typeface="Gill Sans MT"/>
              </a:rPr>
              <a:t>است،وقت بگذارید و به کار برید</a:t>
            </a:r>
            <a:r>
              <a:rPr b="0" lang="fa-IR" sz="3200" spc="-1" strike="noStrike">
                <a:solidFill>
                  <a:srgbClr val="835e01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Subtitle 2"/>
          <p:cNvSpPr/>
          <p:nvPr/>
        </p:nvSpPr>
        <p:spPr>
          <a:xfrm>
            <a:off x="1857240" y="857160"/>
            <a:ext cx="640080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70c0"/>
                </a:solidFill>
                <a:latin typeface="Century Schoolbook"/>
                <a:cs typeface="Times New Roman"/>
              </a:rPr>
              <a:t>توصیه:</a:t>
            </a:r>
            <a:r>
              <a:rPr b="0" lang="fa-IR" sz="3200" spc="-1" strike="noStrike">
                <a:solidFill>
                  <a:srgbClr val="0070c0"/>
                </a:solidFill>
                <a:latin typeface="Century Schoolbook"/>
                <a:cs typeface="Times New Roman"/>
              </a:rPr>
              <a:t>اگر پاسخ های متغیر ،غیر قابل اجتناب بودند از تهیه </a:t>
            </a:r>
            <a:r>
              <a:rPr b="1" lang="fa-IR" sz="3200" spc="-1" strike="noStrike">
                <a:solidFill>
                  <a:srgbClr val="ff33cc"/>
                </a:solidFill>
                <a:latin typeface="Century Schoolbook"/>
                <a:cs typeface="Times New Roman"/>
              </a:rPr>
              <a:t>معیار های بصری</a:t>
            </a:r>
            <a:r>
              <a:rPr b="1" lang="fa-IR" sz="3200" spc="-1" strike="noStrike" u="sng">
                <a:solidFill>
                  <a:srgbClr val="0070c0"/>
                </a:solidFill>
                <a:uFillTx/>
                <a:latin typeface="Century Schoolbook"/>
                <a:ea typeface="Times New Roman"/>
              </a:rPr>
              <a:t> </a:t>
            </a:r>
            <a:r>
              <a:rPr b="0" lang="fa-IR" sz="3200" spc="-1" strike="noStrike">
                <a:solidFill>
                  <a:srgbClr val="0070c0"/>
                </a:solidFill>
                <a:latin typeface="Century Schoolbook"/>
                <a:cs typeface="Times New Roman"/>
              </a:rPr>
              <a:t>در خصوص پیشرفت اطمینان حاصل کنید ،در این صورت کاربر از آنچه اتفاق می افتد ،دور خواهد مان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643040" y="2286000"/>
            <a:ext cx="6786720" cy="3000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4</a:t>
            </a: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 مساله مهمی که سطحی در نظر گرفته می شوند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زمان پاسخگوی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تسهیلات کمکی کاربر (  نوع یکپارچه / نوع افزودنی 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خطا گردانی اطلاعات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4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برچسب گذلری فرمان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357200" y="1143000"/>
            <a:ext cx="72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c4853"/>
                </a:solidFill>
                <a:latin typeface="Century Schoolbook"/>
                <a:cs typeface="Times New Roman"/>
              </a:rPr>
              <a:t>برخی معیار های ارزیابی در بررسی های اولیه ی طراح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2000160" y="1357200"/>
            <a:ext cx="6400800" cy="51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پس از ایجاد مدل طراحی ،این مدل به عنوان یک الگو یا نمونه پیاده می گیرد و بر اساس نظرات آنها اصلاح می گردد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برای سازگاری این رهیافت تکراری طراحی ،مجموعه ی وسیعی از طراحی رابط و ابزارهای الگوهای گسترش یافته است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این ابزارها </a:t>
            </a:r>
            <a:r>
              <a:rPr b="0" lang="fa-IR" sz="2200" spc="-1" strike="noStrike">
                <a:solidFill>
                  <a:srgbClr val="3891a7"/>
                </a:solidFill>
                <a:latin typeface="Gill Sans MT"/>
              </a:rPr>
              <a:t>(</a:t>
            </a:r>
            <a:r>
              <a:rPr b="0" lang="en-US" sz="2200" spc="-1" strike="noStrike">
                <a:solidFill>
                  <a:srgbClr val="3891a7"/>
                </a:solidFill>
                <a:latin typeface="Gill Sans MT"/>
                <a:ea typeface="Times New Roman"/>
              </a:rPr>
              <a:t>UIDS</a:t>
            </a:r>
            <a:r>
              <a:rPr b="0" lang="fa-IR" sz="2200" spc="-1" strike="noStrike">
                <a:solidFill>
                  <a:srgbClr val="3891a7"/>
                </a:solidFill>
                <a:latin typeface="Gill Sans MT"/>
              </a:rPr>
              <a:t>) </a:t>
            </a: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 نامند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835e01"/>
                </a:solidFill>
                <a:latin typeface="Gill Sans MT"/>
              </a:rPr>
              <a:t> "بسته ابزارهای رابط کاربر” یا "سیستم های توسعه ی رابط کاربر”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 با فراهم نمودن اجزا یا اشیایی،ایجاد پنجره ها،منو ها،محاوره ی دستگاه،پیغام های خطا،فرامین و بسیاری از عناصر دیگر یک محیط محاوره ای را تسهیل می کنند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3500280" y="500040"/>
            <a:ext cx="31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c4853"/>
                </a:solidFill>
                <a:latin typeface="Century Schoolbook"/>
                <a:cs typeface="Times New Roman"/>
              </a:rPr>
              <a:t>ابزارهای پیاده ساز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43040" y="2286000"/>
            <a:ext cx="6786720" cy="3000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14440" indent="-514440" algn="r" rtl="1">
              <a:lnSpc>
                <a:spcPct val="1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طول و پیچیدگی  مشخصات کتبی سیستم و رابط آن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lnSpc>
                <a:spcPct val="1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تعداد وظایف تعیین شده ی کاربر و میانگین اعمال در هر کار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lnSpc>
                <a:spcPct val="1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تعداد اعمال ،وظایف و وضعیت های سیستم که در مدل طراحی تعیین شده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lnSpc>
                <a:spcPct val="16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835e01"/>
                </a:solidFill>
                <a:latin typeface="Gill Sans MT"/>
              </a:rPr>
              <a:t>پروتکل سبک رابط،امکانات کمکی و خطاگردانی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214280" y="1143000"/>
            <a:ext cx="721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1c4853"/>
                </a:solidFill>
                <a:latin typeface="Century Schoolbook"/>
                <a:cs typeface="Times New Roman"/>
              </a:rPr>
              <a:t>برخی معیار های ارزیابی در بررسی های اولیه ی طراح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2143080" y="1714320"/>
            <a:ext cx="5572080" cy="1857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 حال </a:t>
            </a:r>
            <a:r>
              <a:rPr b="0" lang="fa-IR" sz="2400" spc="-1" strike="noStrike" u="sng">
                <a:solidFill>
                  <a:srgbClr val="835e01"/>
                </a:solidFill>
                <a:uFillTx/>
                <a:latin typeface="Gill Sans MT"/>
              </a:rPr>
              <a:t>داده های کیفی و کمی </a:t>
            </a: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از طریق پرسشنامه ها که به ارزیابی رابط کمک می کند را جمع آوری می کنیم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642680" y="1857240"/>
            <a:ext cx="6615000" cy="4214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مهندس نرم افزار با  اعمال یک پروسه ی تکراری که اصول از پیش تعریف شده ی طراحی را به کار می برد،رابط کاربر را طراحی می کند.طراحی رابط کاربر یک ابزار ارتباطی موثر را بین انسان و کامپیوتر ایجاد می کند. با رعایت مجموعه ی اصول طراحی  رابط ،طراحی ،موضوعات و اقدامات رابط را شناسایی نموده و سپس با ایجاد  آرایش صفحه ی نمایش  مبنای مدل  و نمونه  ی رابط کاربر را تشکیل می ده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Subtitle 2"/>
          <p:cNvSpPr/>
          <p:nvPr/>
        </p:nvSpPr>
        <p:spPr>
          <a:xfrm>
            <a:off x="2286000" y="714240"/>
            <a:ext cx="5129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c4853"/>
                </a:solidFill>
                <a:latin typeface="Tahoma"/>
                <a:cs typeface="Tahoma"/>
              </a:rPr>
              <a:t>رابط (میانجی) کاربر چیست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571760" y="2286000"/>
            <a:ext cx="6757920" cy="3571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35e01"/>
                </a:solidFill>
                <a:latin typeface="Gill Sans MT"/>
                <a:ea typeface="Times New Roman"/>
              </a:rPr>
              <a:t> </a:t>
            </a:r>
            <a:r>
              <a:rPr b="0" lang="fa-IR" sz="2600" spc="-1" strike="noStrike">
                <a:solidFill>
                  <a:srgbClr val="835e01"/>
                </a:solidFill>
                <a:latin typeface="Gill Sans MT"/>
              </a:rPr>
              <a:t>1</a:t>
            </a:r>
            <a:r>
              <a:rPr b="0" lang="fa-IR" sz="2600" spc="-1" strike="noStrike">
                <a:solidFill>
                  <a:srgbClr val="835e01"/>
                </a:solidFill>
                <a:latin typeface="Gill Sans MT"/>
              </a:rPr>
              <a:t>-طراحی رابط ها بین اجزای نرم افزا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835e01"/>
                </a:solidFill>
                <a:latin typeface="Gill Sans MT"/>
              </a:rPr>
              <a:t>2</a:t>
            </a:r>
            <a:r>
              <a:rPr b="0" lang="fa-IR" sz="2600" spc="-1" strike="noStrike">
                <a:solidFill>
                  <a:srgbClr val="835e01"/>
                </a:solidFill>
                <a:latin typeface="Gill Sans MT"/>
              </a:rPr>
              <a:t>-طراحی رابط ها بین نرم افزار وسایر مصرف کنندگان اطلاعاتی غیر بشری(یعنی سایر اشیاء خارجی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835e01"/>
                </a:solidFill>
                <a:latin typeface="Gill Sans MT"/>
              </a:rPr>
              <a:t>3</a:t>
            </a:r>
            <a:r>
              <a:rPr b="0" lang="fa-IR" sz="2600" spc="-1" strike="noStrike">
                <a:solidFill>
                  <a:srgbClr val="835e01"/>
                </a:solidFill>
                <a:latin typeface="Gill Sans MT"/>
              </a:rPr>
              <a:t>-طراحی رابط بین یک انسان (کاربر)وکامپیوت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c58d01"/>
                </a:solidFill>
                <a:latin typeface="Gill Sans MT"/>
              </a:rPr>
              <a:t>در این فصل فقط  به قسمت سوم می پردازیم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Subtitle 2"/>
          <p:cNvSpPr/>
          <p:nvPr/>
        </p:nvSpPr>
        <p:spPr>
          <a:xfrm>
            <a:off x="2500200" y="857160"/>
            <a:ext cx="5129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c4853"/>
                </a:solidFill>
                <a:latin typeface="Tahoma"/>
                <a:cs typeface="Tahoma"/>
              </a:rPr>
              <a:t>نکته: طراحی رابط،بر سه حوزه تاکید می کن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214720" y="2928960"/>
            <a:ext cx="5271840" cy="2571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835e01"/>
                </a:solidFill>
                <a:latin typeface="Gill Sans MT"/>
              </a:rPr>
              <a:t> </a:t>
            </a:r>
            <a:r>
              <a:rPr b="0" lang="fa-IR" sz="2800" spc="-1" strike="noStrike">
                <a:solidFill>
                  <a:srgbClr val="835e01"/>
                </a:solidFill>
                <a:latin typeface="Gill Sans MT"/>
              </a:rPr>
              <a:t>1</a:t>
            </a:r>
            <a:r>
              <a:rPr b="0" lang="fa-IR" sz="2800" spc="-1" strike="noStrike">
                <a:solidFill>
                  <a:srgbClr val="835e01"/>
                </a:solidFill>
                <a:latin typeface="Gill Sans MT"/>
              </a:rPr>
              <a:t>- واگذاری کنترل به کارب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835e01"/>
                </a:solidFill>
                <a:latin typeface="Gill Sans MT"/>
              </a:rPr>
              <a:t>2</a:t>
            </a:r>
            <a:r>
              <a:rPr b="0" lang="fa-IR" sz="2800" spc="-1" strike="noStrike">
                <a:solidFill>
                  <a:srgbClr val="835e01"/>
                </a:solidFill>
                <a:latin typeface="Gill Sans MT"/>
              </a:rPr>
              <a:t>- کاهش بار حافظه ی کاربر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835e01"/>
                </a:solidFill>
                <a:latin typeface="Gill Sans MT"/>
              </a:rPr>
              <a:t>3</a:t>
            </a:r>
            <a:r>
              <a:rPr b="0" lang="fa-IR" sz="2800" spc="-1" strike="noStrike">
                <a:solidFill>
                  <a:srgbClr val="835e01"/>
                </a:solidFill>
                <a:latin typeface="Gill Sans MT"/>
              </a:rPr>
              <a:t>- سازگار کردن رابط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Subtitle 2"/>
          <p:cNvSpPr/>
          <p:nvPr/>
        </p:nvSpPr>
        <p:spPr>
          <a:xfrm>
            <a:off x="2657520" y="1143000"/>
            <a:ext cx="51292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1c4853"/>
                </a:solidFill>
                <a:latin typeface="Tahoma"/>
                <a:cs typeface="Tahoma"/>
              </a:rPr>
              <a:t>قواعد طلایی "تئو مندل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1c4853"/>
                </a:solidFill>
                <a:latin typeface="Tahoma"/>
                <a:cs typeface="Tahoma"/>
              </a:rPr>
              <a:t>در مورد طراحی راب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643040" y="2071800"/>
            <a:ext cx="7043760" cy="4000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35e01"/>
                </a:solidFill>
                <a:latin typeface="Gill Sans MT"/>
              </a:rPr>
              <a:t>تعیین شیوه های تعاملی به نحوی که کاربر را مجبور به اعمال  غیر ضروری یا نامطلوب نکن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35e01"/>
                </a:solidFill>
                <a:latin typeface="Gill Sans MT"/>
              </a:rPr>
              <a:t>ایجاد تعامل انعطاف پذیر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35e01"/>
                </a:solidFill>
                <a:latin typeface="Gill Sans MT"/>
              </a:rPr>
              <a:t>امکان ایجاد وقفه و خنثی سازی (بازگشت)در  تعامل کاربر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35e01"/>
                </a:solidFill>
                <a:latin typeface="Gill Sans MT"/>
              </a:rPr>
              <a:t> کارآمد ساختن تعامل همراه با پیشرفت سطوح مهارتی و امکان سفارشی کردن آن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35e01"/>
                </a:solidFill>
                <a:latin typeface="Gill Sans MT"/>
              </a:rPr>
              <a:t> مخفی کردن موارد فنی داخلی از کاربران عادی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835e01"/>
                </a:solidFill>
                <a:latin typeface="Gill Sans MT"/>
              </a:rPr>
              <a:t>طراحی تعامل مستقیم با اشیایی که روی صفحه ی نمایش  ظاهر می شود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2071800" y="1000080"/>
            <a:ext cx="65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1c4853"/>
                </a:solidFill>
                <a:latin typeface="Tahoma"/>
                <a:cs typeface="Tahoma"/>
              </a:rPr>
              <a:t>مندل برخی اصول طراحی که به کاربر امکان کنترل می دهد را چنین تعریف می کن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4857840" y="4158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891a7"/>
                </a:solidFill>
                <a:latin typeface="Tahoma"/>
                <a:ea typeface="Tahoma"/>
              </a:rPr>
              <a:t>1</a:t>
            </a:r>
            <a:r>
              <a:rPr b="1" lang="fa-IR" sz="1800" spc="-1" strike="noStrike">
                <a:solidFill>
                  <a:srgbClr val="3891a7"/>
                </a:solidFill>
                <a:latin typeface="Tahoma"/>
                <a:ea typeface="Tahoma"/>
              </a:rPr>
              <a:t>) واگذاری کنترل به کارب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3" descr="LLINKS"/>
          <p:cNvPicPr/>
          <p:nvPr/>
        </p:nvPicPr>
        <p:blipFill>
          <a:blip r:embed="rId1"/>
          <a:stretch/>
        </p:blipFill>
        <p:spPr>
          <a:xfrm>
            <a:off x="0" y="0"/>
            <a:ext cx="914400" cy="7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571760" y="2214720"/>
            <a:ext cx="6772320" cy="3643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کاهش بار حافظه ی  کوتاه مدت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ایجاد پیش گزینه ی معنی دار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تعیین میان بر های که شهودی هستن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طرح بصری رابط باید بر اساس استعاره ی جهان واقعی باشد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آشکار سازی اطلاعات به شیوه ای تدریج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1071720" y="98424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c4853"/>
                </a:solidFill>
                <a:latin typeface="Tahoma"/>
                <a:cs typeface="Tahoma"/>
              </a:rPr>
              <a:t>مندل ،اصول طراحی را که رابط را قادر به کاهش بار حافظه می کند، چنین بیان می کن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929120" y="41580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891a7"/>
                </a:solidFill>
                <a:latin typeface="Tahoma"/>
                <a:ea typeface="Tahoma"/>
              </a:rPr>
              <a:t>2</a:t>
            </a:r>
            <a:r>
              <a:rPr b="1" lang="fa-IR" sz="1800" spc="-1" strike="noStrike">
                <a:solidFill>
                  <a:srgbClr val="3891a7"/>
                </a:solidFill>
                <a:latin typeface="Tahoma"/>
                <a:ea typeface="Tahoma"/>
              </a:rPr>
              <a:t>) کاهش بار حافظه کارب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928880" y="2642760"/>
            <a:ext cx="6400800" cy="3357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قرار دادن عمل فعلی در یک بافت معنی دار توسط کاربر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حفظ ثبات در خانواده ی برنامه های کاربردی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15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اگر مدل های تعاملی پیشین انتظاراتی را در کاربر به وجود آورده اند،تا زمانی که دلیل قانع کننده ای ندارید از انجام آن خودداری کنید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357200" y="1219320"/>
            <a:ext cx="721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c4853"/>
                </a:solidFill>
                <a:latin typeface="Tahoma"/>
                <a:cs typeface="Tahoma"/>
              </a:rPr>
              <a:t>مندل مجموعه ای از اصول طراحی را که به ایجاد سازگاری رابط کمک می کنند را چنین تعریف می کن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4857840" y="5587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891a7"/>
                </a:solidFill>
                <a:latin typeface="Tahoma"/>
                <a:ea typeface="Tahoma"/>
              </a:rPr>
              <a:t>3</a:t>
            </a:r>
            <a:r>
              <a:rPr b="1" lang="fa-IR" sz="1800" spc="-1" strike="noStrike">
                <a:solidFill>
                  <a:srgbClr val="3891a7"/>
                </a:solidFill>
                <a:latin typeface="Tahoma"/>
                <a:ea typeface="Tahoma"/>
              </a:rPr>
              <a:t>) سازگاری راب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857240" y="2142720"/>
            <a:ext cx="6400800" cy="3000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مدل طراحی که توسط مهندس نرم افزار ایجاد  می شود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مدل کاربر که توسط مهندس فاکتور های انسانی(یا مهندس نرم افزار) ایجاد می شود 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مدل ذهنی کاربر یا تعبیر سیستم که کابر نهایی از یک تصویر ذهنی می سازد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r" rtl="1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835e01"/>
                </a:solidFill>
                <a:latin typeface="Gill Sans MT"/>
              </a:rPr>
              <a:t>تصویر سیستم که توسط اجرا کنندگان سیستم به وجود می آید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1571760" y="128592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1c4853"/>
                </a:solidFill>
                <a:latin typeface="Tahoma"/>
                <a:cs typeface="Tahoma"/>
              </a:rPr>
              <a:t>به هنگام طراحی یک رابط کاربر، </a:t>
            </a:r>
            <a:r>
              <a:rPr b="1" lang="fa-IR" sz="1800" spc="-1" strike="noStrike">
                <a:solidFill>
                  <a:srgbClr val="1c4853"/>
                </a:solidFill>
                <a:latin typeface="Tahoma"/>
                <a:ea typeface="Tahoma"/>
              </a:rPr>
              <a:t>4</a:t>
            </a:r>
            <a:r>
              <a:rPr b="1" lang="fa-IR" sz="1800" spc="-1" strike="noStrike">
                <a:solidFill>
                  <a:srgbClr val="1c4853"/>
                </a:solidFill>
                <a:latin typeface="Tahoma"/>
                <a:cs typeface="Tahoma"/>
              </a:rPr>
              <a:t>مدل اساسی به کار می آیند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143160" y="2858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891a7"/>
                </a:solidFill>
                <a:latin typeface="Tahoma"/>
                <a:cs typeface="Tahoma"/>
              </a:rPr>
              <a:t>مدل های طراحی راب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1500120" y="528624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891a7"/>
                </a:solidFill>
                <a:latin typeface="Tahoma"/>
                <a:cs typeface="Tahoma"/>
              </a:rPr>
              <a:t>این مدل ها به طراح کاربر کمک می کنند تا مهمترین اصل طراحی رابط را رعایت کنن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3891a7"/>
                </a:solidFill>
                <a:latin typeface="Tahoma"/>
                <a:ea typeface="Tahoma"/>
              </a:rPr>
              <a:t>”شناخت کاربر و شناخت وظائف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2928960" y="2285640"/>
            <a:ext cx="4500720" cy="2786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r" rtl="1">
              <a:lnSpc>
                <a:spcPct val="2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35e01"/>
                </a:solidFill>
                <a:latin typeface="Gill Sans MT"/>
              </a:rPr>
              <a:t>کاربران مبتد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2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35e01"/>
                </a:solidFill>
                <a:latin typeface="Gill Sans MT"/>
              </a:rPr>
              <a:t>کاربران مطلع و دوره ا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algn="r" rtl="1">
              <a:lnSpc>
                <a:spcPct val="2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835e01"/>
                </a:solidFill>
                <a:latin typeface="Gill Sans MT"/>
              </a:rPr>
              <a:t>کاربران مطلع و دائمی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3571920" y="1170000"/>
            <a:ext cx="35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1c4853"/>
                </a:solidFill>
                <a:latin typeface="Tahoma"/>
                <a:ea typeface="Tahoma"/>
              </a:rPr>
              <a:t>*طبقه بندی کاربرا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2:54:28Z</dcterms:created>
  <dc:creator>SiteB</dc:creator>
  <dc:description/>
  <dc:language>en-US</dc:language>
  <cp:lastModifiedBy>MRT</cp:lastModifiedBy>
  <dcterms:modified xsi:type="dcterms:W3CDTF">2010-03-12T17:08:56Z</dcterms:modified>
  <cp:revision>53</cp:revision>
  <dc:subject/>
  <dc:title>Slide 1</dc:title>
</cp:coreProperties>
</file>