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905-9917-4110-9AD8-754072738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A6B-6D09-4463-BD5A-B09DFF30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7C9-A198-441D-9B35-09F38F8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E18-AE59-40E4-921B-22DAF5611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E41B-0E92-4A39-ACA2-A3B05C0F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694A-4D72-4899-8833-6465C408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186E-A092-4710-9192-77BE14EB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F4A-6944-49B8-B64D-EA2DCBF5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3531-CE50-407E-8017-113DE9CC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B39D-BF20-4F97-BDAD-053C47C2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1AC5-8C11-433F-8854-DF6ACBCF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CC58-2E9A-422D-A667-0390D3BC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B13A-FEF6-4C8F-8E98-8C0731AE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1E1E0-75BE-4D18-8038-A4D8200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5960-6930-4D0B-B33D-045493DA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2759-770C-4AD1-A84A-54D631097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F072-BAFA-4B58-BAB7-83AD8645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4AE-AF3B-4BB3-B1F0-CB7F6F17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6E8-E613-4305-8E64-4EB99C09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1223-0499-451D-B150-A4CEA20D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219-C5F8-4BC7-9418-768B765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E56-71E4-4A46-8A24-2C962BF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B04-2978-48C0-B5F2-8FBE43C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61B-91D4-4209-A007-FCD57FF3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000000"/>
                </a:solidFill>
                <a:latin typeface="Times New Roman"/>
                <a:ea typeface="B Nazani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FF6C-A485-4C31-85A9-157729F87219}" type="slidenum">
              <a:rPr b="0" lang="fa-IR" sz="1400" spc="-1" strike="noStrike">
                <a:solidFill>
                  <a:srgbClr val="000000"/>
                </a:solidFill>
                <a:latin typeface="Times New Roman"/>
                <a:ea typeface="B Nazani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400" spc="-1" strike="noStrike">
                <a:solidFill>
                  <a:srgbClr val="ffffff"/>
                </a:solidFill>
                <a:latin typeface="Times New Roman"/>
                <a:ea typeface="B Nazani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4A3F-4353-4C4A-84F9-03978D17953B}" type="slidenum">
              <a:rPr b="0" lang="fa-IR" sz="1400" spc="-1" strike="noStrike">
                <a:solidFill>
                  <a:srgbClr val="ffffff"/>
                </a:solidFill>
                <a:latin typeface="Times New Roman"/>
                <a:ea typeface="B Nazani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67280" y="691920"/>
            <a:ext cx="417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ffffff"/>
                </a:solidFill>
                <a:latin typeface="Times New Roman"/>
              </a:rPr>
              <a:t>فصل </a:t>
            </a:r>
            <a:r>
              <a:rPr b="1" lang="fa-IR" sz="5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116000" y="2205000"/>
            <a:ext cx="7308720" cy="3024360"/>
          </a:xfrm>
          <a:custGeom>
            <a:avLst/>
            <a:gdLst>
              <a:gd name="textAreaLeft" fmla="*/ 1668240 w 7308720"/>
              <a:gd name="textAreaRight" fmla="*/ 5640480 w 7308720"/>
              <a:gd name="textAreaTop" fmla="*/ 690480 h 3024360"/>
              <a:gd name="textAreaBottom" fmla="*/ 233388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76a0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ffffff"/>
                </a:solidFill>
                <a:latin typeface="Arial"/>
                <a:cs typeface="B Nazanin"/>
              </a:rPr>
              <a:t>طراحی شئ گرا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6296040"/>
            <a:ext cx="5619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5516640"/>
            <a:ext cx="7570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ترجمه مدل تحلیل شئ گرا به مدل طراحی شئ گر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89280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50716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زیر سیستم با در نظر گرفتن نیازهای کلی مشتری (که با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-case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ها نشان داده شده اند) و وقایع وحالت هایی که از خارج قابل مشاهده می باشند (مدل شئ - رفتار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نجام می شو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کلاس وشئ با توصی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عمال و همکاری هایی مد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C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تصویر می گرد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پیغام با استفاده از مدل شئ-رفتار انجام می گیر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وظایف با استفاده از صفا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عما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و همکاری های توصیف شده در مدل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C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دست می آی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  </a:t>
            </a:r>
            <a:br>
              <a:rPr sz="4000"/>
            </a:b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5075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cman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merer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مولفه را برای طراحی پیشنها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ی کنند که به منظور مقایسه ی روشهای متداول گوناگو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شئ گرا به کار می برد: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 نمایش سلسله مراتب پیمانه 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مشخصه ی تعاریف داده  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مشخصه ی منطق رویه ا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نمایش دنباله پرداز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نمایش حالت هاو تغییر حالتهای هر ش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تعریف کلاس ها سلسله مراتب ها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انتساب اعمال به کلاس 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تعریف جزئیات اعما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مشخصه ی ارتباطات پیغام ها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-  شناسایی سرویس های انحصار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Bertrand Meyer</a:t>
            </a:r>
            <a:r>
              <a:rPr b="1" lang="fa-IR" sz="3200" spc="-1" strike="noStrike">
                <a:solidFill>
                  <a:srgbClr val="feec94"/>
                </a:solidFill>
                <a:latin typeface="Times New Roman"/>
              </a:rPr>
              <a:t> پنج معیار را برای قضاوت در مورد توانایی یک روش طراحی به منظور دستیابی به خاصیت پیمانه ای و ارتباط آنها به طراحی شی گرا ارائه می دهد 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2852280"/>
            <a:ext cx="7561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قابلیت تجزیه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قابلیت ترکیب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قابلیت فه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تداو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حفاظ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642160" cy="15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eec94"/>
                </a:solidFill>
                <a:latin typeface="Times New Roman"/>
              </a:rPr>
              <a:t>از این معیار ها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Meyer</a:t>
            </a:r>
            <a:r>
              <a:rPr b="1" lang="fa-IR" sz="3600" spc="-1" strike="noStrike">
                <a:solidFill>
                  <a:srgbClr val="feec94"/>
                </a:solidFill>
                <a:latin typeface="Times New Roman"/>
              </a:rPr>
              <a:t> پنج اصل بنیادی طراحی را پیشنهاد می کند که می تواند از معماری های پیمانه ای بدست آید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781360"/>
            <a:ext cx="800244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واحد های پیمانه ای زبانی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ابط های اند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ابط های کم(چسبندگی ضعیف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رابط های صری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پنهان سازی اطلاعا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1287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زبان مدل سازی یکپارچه(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UML</a:t>
            </a: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7138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M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در قالب دو فعالیت عمده طراحی سازماندهی شد ه است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طراحی سیست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 algn="r" rtl="1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طراحی ش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5589360"/>
            <a:ext cx="7427880" cy="54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           جریان فرایند برای طراحی شئ گر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403280" y="476280"/>
          <a:ext cx="6624720" cy="48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76280"/>
                    <a:ext cx="662472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فرایند طراحی سیست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025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طراحی سیستم جزئیات معماری لازم برای ایجاد سیستم ی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محصول را توسعه می دهند. فرایند طراحی سیستم شامل فعالیت های زیر است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مدل تحلیل به زیر سیستم ها تقسیم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همزمانی های مشخص شده توسط مسئله شناسایی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زیر سیستم ها به پردازنده ها و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ها اختصاص یابن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طراحی رابط کاربر انجام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یک استراتژی پایه برای پیاده سازی مدیریت داده ها انتخاب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منابع سراسری و مکانیزم های کنترل لازم برای دسترسی به آنها شناسایی شو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مکانیزم کنترل مناسبی برای سیستم شامل مدیریت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ها طراحی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روش اداره شرایط مرزی مشخص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مرور و توجه به فاکتور های تعادل شو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تقسیم بندی مدل تحلی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زیر سیستم ها براساس وظایفشان دسته بندی می شوند یعنی یک  زیر سیستم می تواند با سرویسهایی که فراهم می کند شناسایی گرد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هنگامی که دو سیستم با یکدیگر ارتباط برقرار می کنند می توانند اتصال تولید کننده – مصرف کننده یا اتصال نقطه به نقطه ایجاد کن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هنگامی که سیستم به زیر سیستم ها تقسیم بندی می شود فعالیت دیگر طراحی به نام لایه بندی انجام می گیرد.هر لایه ی سیستم  شئ گرا حاوی یک یا چند زیر سیستم است و سطح متفاوتی از مجرد ساز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عملکرد لازم برای دستیابی به توابع سیستم را نشان می دهد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eec94"/>
                </a:solidFill>
                <a:latin typeface="Times New Roman"/>
              </a:rPr>
              <a:t>در ضمن تعریف (و طراحی ) زیر سیستم آنها باید با معیارهای طراحی زیر مطابقت داشته باشند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زیر سیستم باید رابطی با تعریف دقیق داشته باشد که از طریق آن همه ی ارتباطات با اجزاء دیگر سیستم ارتباط برقرار نمای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ه استثناء تعداد اندک ”کلاسهای ارتباطی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کلاسهای داخل زیر سیستم باید فقط با کلاسهای دیگر آن زیر سیستم ارتباط برقرار نمای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عداد زیر سیستم ها باید کم باش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زیر سیستم می تواند ازداخل تقسیم بندی شود تا به کاهش پیچیدگی کمک ک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195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    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6774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شئ گرا مدل تحلیل را که با استفاده از تحلیل شئ گر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بدست آمد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ه مدل طراحی تبدیل می نمای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که مبنای ساخ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نرم افزار خواهد بو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r" rtl="1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شئ گرا الگویی را برای طراحی ایجاد می کند که باعث می شود مهندس نرم افزا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معماری شئ گرا را ب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گونه ای تعریف نماید که استفاده مجدد را به حداکثر بر سان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و در نتیجه سرعت و کیفیت محصول ارتقاء یاب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33cc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" spc="-1" strike="noStrike">
                <a:solidFill>
                  <a:srgbClr val="0033cc"/>
                </a:solidFill>
                <a:latin typeface="Times New Roman"/>
              </a:rPr>
              <a:t>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همروندی و تخصیص زیر سیست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2520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 اگر زیر سیستم ها همروند باشند دوامکان وجود دارد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604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r" rtl="1"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اختصاص هر زیر سیستم به پردازنده مستقل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1560" indent="-469440" algn="r" rtl="1">
              <a:spcBef>
                <a:spcPts val="700"/>
              </a:spcBef>
              <a:buClr>
                <a:srgbClr val="feec94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اختصاص زیر سیستم ها به یک پردازنده و فراهم نمودن امکانات همروندی از طریق امکانات سیستم عامل.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ولفه ی مدیریت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s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8569080" cy="290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ad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و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rdon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ستراتژی زیر را برای طراحی اشیاء که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های همروند را مدیریت می کنند پیشنهاد می نمایند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 algn="r" rtl="1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خصوصیات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ها تعیین شو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 algn="r" rtl="1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 یک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هماهنگ کننده و اشیاء مربوط به آن تعریف شو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 algn="r" rtl="1">
              <a:spcBef>
                <a:spcPts val="700"/>
              </a:spcBef>
              <a:buClr>
                <a:srgbClr val="ff33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 هماهنگ کننده و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sk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های دیگر مجتمع شو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ولفه ی رابط کاربر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2852640"/>
            <a:ext cx="777744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اگر چه مولفه رابط کاربر در رابطه با محدوده ی مسئله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پیاده سازی می شو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رابط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نمایش دهنده ی زیرسیستمی مهم و بحرانی برای اکثر کاربرهای مدرن می باش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ولفه ی مدیریت داده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4000" y="2924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مدیریت داده شامل دو زمینه ی قابل توجه است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5480" indent="-425160" algn="r" rtl="1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دیریت داده هایی که برای کاربرد بحرانی هست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75480" indent="-425160" algn="r" rtl="1">
              <a:spcBef>
                <a:spcPts val="700"/>
              </a:spcBef>
              <a:buClr>
                <a:srgbClr val="cccc00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ایجاد زیر بنایی برای ذخیره و بازیابی اشیا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ولفه ی مدیریت منبع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نابع گوناگونی برای سیستم یا محصول شئ گرا در دسترس هستند و در بسیاری از موارد زیر سیستم ها برای دستیابی به این منابع در یک زمان رقابت می کن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نابع سراسری سیستم می توانند موجودیت خارجی (برای مثال گرداننده ی دیس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پردازنده یا خط ارتباطی) یا مجردات (برای مثال بانک اطلاعات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یک ش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...) باش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ارتباط بین زیر سیستم ها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پس از مشخص شدن هر زیر سیستم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همکاری های موجود بین این زیر سیستم ها نیز باید تعریف شوند. مدلی که برای شئ - با - شئ استفاده می شود می تواند برای تمام زیر سیستم ها به صورت یک مجموعه توسعه یاب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eec94"/>
                </a:solidFill>
                <a:latin typeface="Times New Roman"/>
              </a:rPr>
              <a:t>مراحل طراحی زیر به منظور مشخص نمودن قراردادی برای یک زیر سیستم باید دنبال شوند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270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هر درخواستی  که با همکاری زیر سیستم ها قابل انجام است لیست شو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ای هر قرار دا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ه اعمالی توجه داشته باشید که برای پیاده سازی وظایف آن قرار داد لازم هستند (از هر دو نوع خصوصی و به ارث رسیده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در هر دفعه یک قرار داد را در نظر بگیری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جدولی به صورت زیر ایجاد کنی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55640" y="2276640"/>
          <a:ext cx="7786800" cy="5430600"/>
        </p:xfrm>
        <a:graphic>
          <a:graphicData uri="http://schemas.openxmlformats.org/drawingml/2006/table">
            <a:tbl>
              <a:tblPr/>
              <a:tblGrid>
                <a:gridCol w="1150920"/>
                <a:gridCol w="720720"/>
                <a:gridCol w="2232000"/>
                <a:gridCol w="1081080"/>
                <a:gridCol w="1079640"/>
                <a:gridCol w="1522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قرا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نو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همکاری کننده ه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کلاسه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اعما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3200" spc="-1" strike="noStrike">
                          <a:solidFill>
                            <a:srgbClr val="ffffff"/>
                          </a:solidFill>
                          <a:latin typeface="Times New Roman"/>
                          <a:cs typeface="B Nazanin"/>
                        </a:rPr>
                        <a:t>قالب پیغا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8785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-838080" algn="ctr" rtl="1">
              <a:buClr>
                <a:srgbClr val="feec94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eec94"/>
                </a:solidFill>
                <a:latin typeface="Times New Roman"/>
              </a:rPr>
              <a:t>اگر نوع تعامل بین زیر سیستم ها پیچیده باشد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,</a:t>
            </a:r>
            <a:r>
              <a:rPr b="1" lang="fa-IR" sz="3200" spc="-1" strike="noStrike">
                <a:solidFill>
                  <a:srgbClr val="feec94"/>
                </a:solidFill>
                <a:latin typeface="Times New Roman"/>
              </a:rPr>
              <a:t> یک نمودار زیر سیستم – همکاری مانند زیر ایجاد می گردد</a:t>
            </a: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395280" y="184464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فرایند طراحی ش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2349000"/>
            <a:ext cx="87138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طراحی ش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جزئیات طراحی اشیاء و تعامل های آنها را مدنظر دارد. این طراحی براساس معماری کل تعریف شده در ضمن طراحی سیستم و بر طبق راهنمایی های توافق شده ی طراحی و پروتکل های آن کامل می شود. طراحی شئ مخصوصا به مشخصه ی نوع صفات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نحوه ی عملکرد اعمال و روش اتصال اشیاء با اشیاء دیگر توجه دارد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 شئ گرا مشکل است و طراحی نرم افزار شئ گرای قابل استفاده مجد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از آن هم مشکل تر است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بر خلاف روشهای متداول طراحی نرم افزا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طراح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شئ گر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اعث ایجاد نوعی طراحی می شود که سطوح متفاوتی از پیمانه سازی را فراهم می نمای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ولفه های عمده سیستم در قالب زیر سیستم سازماندهی می شو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که پیمانه ی سطح سیستم نامیده میشو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توصیف اشیا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227628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وصیف طراحی یک شئ (نمونه ای از یک کلاس یا زیر کلاس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یکی از این شکل ها را دارد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 algn="r" rtl="1"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توصیف پروتک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ایجاد کننده ی رابط یک شئ می باش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با استفاده از تعریف هر پیغامی که شئ می تواند دریافت کند همراه با عملی که شئ در ضمن دریافت پیغام انجام می ده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0760" indent="-511920" algn="r" rtl="1">
              <a:spcBef>
                <a:spcPts val="601"/>
              </a:spcBef>
              <a:buClr>
                <a:srgbClr val="feec94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توصیف پیاده ساز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جزئیات پیاده سازی را برای هر عمل مشخص شده توسط پیغام ارسال شده به شئ نشان می دهد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eec94"/>
                </a:solidFill>
                <a:latin typeface="Times New Roman"/>
              </a:rPr>
              <a:t>توصیف پیاده سازی شامل این اطلاعات می باشد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شخصه ی نام شئ و ارجاع به کلا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مشخصه ی ساختمان داده ی خصوصی همراه با نمایش  اقدام داده و انوا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توصیف رویه ای هرعمل یا در حالت دیگر اشاره گرهایی به چنین توصیفات رویه ای. توصیف رویه ای حاوی اطلاعات کافی برای اداره ی مناسب تمام پیغامهای توصیف شده در توصیف پروتکل باش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طراحی الکریتمها وساختمان داده ها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الکریتمی برای پیاده سازی مشخصه ی هرعمل ایجاد می شو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ساختمان داده ها به طورهمروند با الگوریتم ها طراحی می شود. چون اعمال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صفات یک کلاس را دستکاری می کنن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طراحی ساختمان داده هایی که منعکس کننده این صفات هستند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ارتباط زیادی با طراحی الگوریتمی اعمال متناظر آنها دار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56944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eec94"/>
                </a:solidFill>
                <a:latin typeface="Times New Roman"/>
              </a:rPr>
              <a:t>پس از ایجاد مدل شئ اصلی بهینه سازی باید انجام شود. سه مورد عمده را برای بهینه سازی طراحی شئ پیشنهاد می کنند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4358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رور مدل شئ – رابطه برای اطمینان از اینکه طراحی انجام شده استفاده ی بهینه ای از منابع می نماید وپیاده سازی آن آسان است. درصورت نیاز افزونگ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قابل قبول است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ساختمان داده های صفات و الگوریتم های اعمال متناظر آنها بازبینی شوند تا کارایی پردازش ارتقاء یاب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2760" indent="-572760" algn="r" rtl="1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صفات جدیدی ایجاد شوند تا اطلاعات بدست آمده را ذخیره نمایند همراه با اجتناب از محاسبه ی مجدد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مولفه و رابط های برنامه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یک جنبه مهم از کیفیت طراحی نرم افزار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خاصیت پیمانه ای است.یعنی مشخصه ی مولفه های(پیمانه های) برنامه که برای تشکیل برنامه ای کامل با یکدیگر ترکیب می شو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شیوه ی شئ گرا شئ را به عنوان مولفه ای از برنامه تعریف می کند که به مولفه های دیگر متصل می شود(برای مثال داده های خصوصی و اعمال). اما تعریف اشیا و اعمال کافی نیست. در ضمن طراحی رابط های بین اشیاء و ساختار کلی (از نظر معماری)اشیاء باید شناسایی شوند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الکوهای طراح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در فرایند تحلیل شئ گر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مهندس نرم افزار باید به دنبال هر موردی بگردد که الگوهای طراحی موجود را مجدد استفاده نمایند (زمانی که با نیازهای طراحی مطابقت داشته باشند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به جای این که مورد جدیدی را ایجاد کن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استفاده از الگوهای طراح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981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در یک سیستم شئ گرا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 الگوهای طراحی با بکارگیری دو مکانیزم متفاوت قابل استفاده هستند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                     وراثت و ترکی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WordArt 8"/>
          <p:cNvSpPr txBox="1"/>
          <p:nvPr/>
        </p:nvSpPr>
        <p:spPr>
          <a:xfrm rot="20843400">
            <a:off x="-323640" y="2636640"/>
            <a:ext cx="9141120" cy="19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876000"/>
                </a:gradFill>
                <a:latin typeface="Parchment"/>
              </a:rPr>
              <a:t>THE END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876000"/>
              </a:gradFill>
              <a:latin typeface="Parchment"/>
              <a:ea typeface="Parchme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  ماهیت منحصر به فرد طراحی شئ گرا در توانای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ff"/>
                </a:solidFill>
                <a:latin typeface="Times New Roman"/>
              </a:rPr>
              <a:t>  آن برای ایجاد چهار مفهوم طراحی نرم افزار است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 algn="r" rtl="1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مجرد ساز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 algn="r" rtl="1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  پنهان ساز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 algn="r" rtl="1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  استقلال تابع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0040" indent="-207720" algn="r" rtl="1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Times New Roman"/>
              </a:rPr>
              <a:t> خاصیت پیمانه ای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68360" y="5300640"/>
            <a:ext cx="417528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هرم طراحی شئ گر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329080" cy="4183200"/>
          </a:xfrm>
          <a:prstGeom prst="rect">
            <a:avLst/>
          </a:prstGeom>
          <a:ln w="12600">
            <a:solidFill>
              <a:srgbClr val="bb5f0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لایه ی زیر سیست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2931840"/>
            <a:ext cx="8785440" cy="33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اوی نمایشی از هر یک از زیر سیستم است که باعث می شو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نرم افزا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نیازهای تعریف شده توسط مشتری را تامین نمای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   و زیربنای تکنیکی حمایت کننده ی نیازهای مشتری را بساز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لایه ی کلاس و ش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3284640"/>
            <a:ext cx="8218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اوی سلسله مراتب کلاسها است که باعث می شود سیستم با استفاده از ساختاری از کل به جزء ایجاد گردد. این لایه حاوی نماشهایی از هر شئ می باش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لایه ی پیغام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اوی جزییات طرای است که باعث می شود هر شئ با همکاری کننده های خود ارتباط برقرار نماید. این لایه رابطه های داخلی و خارجی را برای سیستم ایجاد می کن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eec94"/>
                </a:solidFill>
                <a:latin typeface="Times New Roman"/>
              </a:rPr>
              <a:t>لایه ی وظایف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314136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imes New Roman"/>
              </a:rPr>
              <a:t>حاوی ساختمان داده ها و طراحی الگوریتمی تمام صفات و اعمال هر شئ می باشد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11:57Z</dcterms:created>
  <dc:creator>Dear User!</dc:creator>
  <dc:description/>
  <dc:language>en-US</dc:language>
  <cp:lastModifiedBy>behrooz</cp:lastModifiedBy>
  <dcterms:modified xsi:type="dcterms:W3CDTF">2010-02-19T13:41:02Z</dcterms:modified>
  <cp:revision>34</cp:revision>
  <dc:subject/>
  <dc:title>فصل 22</dc:title>
</cp:coreProperties>
</file>