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6BE-09D9-4F1D-A355-E0A81F2D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4E7-4342-4149-A7D5-888755E0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24C-8803-4439-946E-D25AB839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A0B-9895-4C29-A3D0-57A46262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A2BC-C376-4137-9D9B-8328EBFD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3DA0-E7EF-4D19-952A-1C7DB6A8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7290-F414-42A9-A739-28661B81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450E-B28D-45CF-BA54-B9ABA8D0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8694-4DA8-4E67-99AA-C91C26AB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9B50-AA9A-4CAF-AAFB-BE963843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95F6-B850-4043-8579-624B7343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0F1-277F-4444-B0B1-595FA9B8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F1E7-2B41-4A27-BCFF-1A65E43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9D0D-FBA1-4FDB-88FD-EAC3D094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2B21-16AC-4C5B-8C7E-0BBBAD7F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20A5-E3A4-4116-A8B6-295EBC3A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8007-8616-4B8B-9EB0-1CA7CB55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9A1-5106-4859-9959-9BE4C4FC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FC4-22B7-41AE-9B27-57D6365C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32A-B3C7-4062-A923-23C2413B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3AD-7BC1-46E9-BAA8-8244F8E1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34A-443B-45B3-AABB-329F93F2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43F-BF8C-4CB2-AD88-0B11A6F9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D42-16EF-4AC5-A07D-23CC4112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E960-888D-4051-85FF-84B1DD2F30AF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FB9B-0C9E-4870-8A56-1C86798DE3FF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to Add a New Protocol in NS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Xu Leiming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SCW Lab. at CS Dept., Tsinghua Univ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ilto:xlming@csnet4.cs.tsinghua.edu.c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June 1, 2001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cc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1676520"/>
            <a:ext cx="7696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nt hdr_ping::offset_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atic class PingHeaderClass : public PacketHeaderClass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ingHeaderClass() : PacketHeaderClass("PacketHeader/Ping"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zeof(hdr_ping))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bind_offset(&amp;hdr_ping::offset_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 class_pinghdr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atic class PingClass : public TclClass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ingClass() : TclClass("Agent/Ping") {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clObject* create(int, const char*const*)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return (new PingAgent()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 class_ping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cc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27432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ingAgent::PingAgent() : Agent(PT_PING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ind("packetSize_", &amp;size_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174600"/>
            <a:ext cx="7772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nt PingAgent::command(int argc, const char*const* argv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f (argc == 2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f (strcmp(argv[1], "send") == 0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reate a new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* pkt = allocpkt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Ping header for the new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ping* hdr = hdr_ping::access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t the 'ret' field to 0, so the receiving node know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that it has to generate an echo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-&gt;ret = 0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tore the current time in the 'send_time' fiel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-&gt;send_time = Scheduler::instance().clock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n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nd(pkt, 0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return TCL_OK, so the calling function knows that th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ommand has been processe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return (TCL_OK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If the command hasn't been processed by PingAgent()::command,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all the command() function for the base clas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return (Agent::command(argc, argv)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228600"/>
            <a:ext cx="79246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void PingAgent::recv(Packet* pkt, Handler*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IP header for the received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ip* hdrip = hdr_ip::access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Ping header for the received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ping* hdr = hdr_ping::access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Is the 'ret' field = 0 (i.e. the receiving node is being pinged)?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f (hdr-&gt;ret == 0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nd an 'echo'. First save the old packet's send_ti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double stime = hdr-&gt;send_time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Discar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::free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reate a new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* pktret = allocpkt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Ping header for the new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ping* hdrret = hdr_ping::access(pktre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t the 'ret' field to 1, so the receiver won't send another ech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ret-&gt;ret = 1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t the send_time field to the correct valu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ret-&gt;send_time = stime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n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nd(pktret, 0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457200"/>
            <a:ext cx="7238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}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else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 packet was received. Use tcl.eval to call the Tc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interpreter with the ping results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Note: In the Tcl code, a procedure 'Agent/Ping recv {from rtt}'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has to be defined which allows the user to react to the ping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result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har out[100]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Prepare the output to the Tcl interpreter. Calculate the roun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trip ti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printf(out, "%s recv %d %3.1f", name(),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ip-&gt;src_.addr_ &gt;&gt; Address::instance().NodeShift_[1],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(Scheduler::instance().clock()-hdr-&gt;send_time) * 1000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cl&amp; tcl = Tcl::instance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cl.eval(ou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Discar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::free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tc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7520" y="1752480"/>
            <a:ext cx="63604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efine a 'recv' function for the class 'Agent/Ping'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gent/Ping instproc recv {from rtt}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self instvar node_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ts "node [$node_ id] received ping answer from \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from with round-trip-time $rtt ms."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s [new Simulator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f [open out.nam w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namtrace-all $n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reate three nod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0 [$ns node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1 [$ns node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457200"/>
            <a:ext cx="746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onnect the nodes with one lin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duplex-link $n0 $n1 1Mb 10ms DropTai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reate two ping agents and attach them to the nodes n0 and n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p0 [new Agent/Ping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tach-agent $n0 $p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p1 [new Agent/Ping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tach-agent $n1 $p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#Connect the two agen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connect $p0 $p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#Schedule even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2 "$p0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4 "$p1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6 "$p0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6 "$p1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1.0 "finish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#Run the simulatio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ru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cket.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8360" y="2487600"/>
            <a:ext cx="613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enum packet_t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TCP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UDP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..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// insert new packet types her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TFRC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TFRC_ACK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PT_PING,    //  packet protocol ID for our ping-age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NTYPE // This MUST be the LAST on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cket.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43540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lass p_info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_info(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TCP]= "tcp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UDP]= "udp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TFRC]= "tcpFriend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TFRC_ACK]= "tcpFriendCtl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name_[PT_PING]="Ping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NTYPE]= "undefined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.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/lib/ns-default.tcl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gent/Ping set packetSize_ 6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/lib/ns-packet.tcl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reach prot {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ODV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RP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SRM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……  </a:t>
            </a:r>
            <a:br>
              <a:rPr sz="2000"/>
            </a:b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Ping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 {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dd-packet-header $prot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 Example ---- P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cket fl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de mode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Our researc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kefile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ssionhelper.o delaymodel.o srm-ssm.o \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rm-topo.o \</a:t>
            </a:r>
            <a:br>
              <a:rPr sz="2000"/>
            </a:b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ping.o \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(LIB_DIR)int.Vec.o $(LIB_DIR)int.RVec.o \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(LIB_DIR)dmalloc_support.o \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compile and run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 depend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s  ping.tc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acket flo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1676520"/>
          <a:ext cx="76964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6964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ode Models -- Wireless N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962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ode Models -- LA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4674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r Research : Wireless rou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net: Mobile Ad hoc Network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fixed infra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bile nod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lti-hop wireless networ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very host act as a rout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uting protocol in Manet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ODV  DSR  DSDV …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arget applications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attlefield,  border patrol,  disaster recovery…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990720" y="609480"/>
          <a:ext cx="7848360" cy="554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84836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MU Ad-Hocke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alistic scenario build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isualizations of the simulation trace fi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cenario: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500m * 300m,  50 nodes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ropogation range: 250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x speed: 20m/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use time: 0 30 60 120 300 600 90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r Research : Wireless rou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raffic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BR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4pkt/s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urce number: 10 20 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-2743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imlation time: 900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-2743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nalyze the trace file: perl program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-2743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Performance metric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cket delivery ra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nd-end dela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tocol overhea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…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r Research : Wireless rou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ew packet hea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++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necessary chang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acket Hea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28800" y="1752480"/>
          <a:ext cx="56386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6386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acket Hea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46784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w Packet Hea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eate new header structu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able tracing support of new hea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eate static class for OTcl linkage (packet.h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able new header in Otcl (tcl/lib/ns-packet.tcl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w Age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cide position in class hierarchy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rive from a agent clas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nk with a OTcl cla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clClass  TclObjec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clObject::bind(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tcl --&gt; c++: command() &lt;otcl command&gt;,  tcl.result(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++ --&gt; otcl: tcl.eval(“&lt;otcl action&gt;”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member functions: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t Agent::command(int argc, const char*const* argv)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oid Agent::recv(Packet* pkt, Handler*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ew packet hea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++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necessary chang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h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584360"/>
            <a:ext cx="7620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ruct hdr_ping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har ret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uble send_time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// Header access method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atic int offset_; // required by PacketHeaderManag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nline static hdr_ping* access(const Packet* p)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return (hdr_ping*) p-&gt;access(offset_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ass PingAgent : public Agent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ingAgent(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irtual int command(int argc, const char*const* argv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irtual void recv(Packet*, Handler*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7T09:54:43Z</dcterms:created>
  <dc:creator>xlming</dc:creator>
  <dc:description/>
  <dc:language>en-US</dc:language>
  <cp:lastModifiedBy>xlming</cp:lastModifiedBy>
  <dcterms:modified xsi:type="dcterms:W3CDTF">2001-05-31T13:28:43Z</dcterms:modified>
  <cp:revision>29</cp:revision>
  <dc:subject/>
  <dc:title>How to Add a New Protocol in NS2</dc:title>
</cp:coreProperties>
</file>